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3.jpeg" ContentType="image/jpeg"/>
  <Override PartName="/ppt/media/image12.png" ContentType="image/png"/>
  <Override PartName="/ppt/media/image21.png" ContentType="image/png"/>
  <Override PartName="/ppt/media/image19.wmf" ContentType="image/x-wmf"/>
  <Override PartName="/ppt/media/image31.jpeg" ContentType="image/jpeg"/>
  <Override PartName="/ppt/media/image2.png" ContentType="image/png"/>
  <Override PartName="/ppt/media/image18.wmf" ContentType="image/x-wmf"/>
  <Override PartName="/ppt/media/image32.jpeg" ContentType="image/jpeg"/>
  <Override PartName="/ppt/media/image20.wmf" ContentType="image/x-wmf"/>
  <Override PartName="/ppt/media/image4.jpeg" ContentType="image/jpeg"/>
  <Override PartName="/ppt/media/image8.wmf" ContentType="image/x-wmf"/>
  <Override PartName="/ppt/media/image13.wmf" ContentType="image/x-wmf"/>
  <Override PartName="/ppt/media/image35.png" ContentType="image/png"/>
  <Override PartName="/ppt/media/image5.png" ContentType="image/png"/>
  <Override PartName="/ppt/media/image33.jpeg" ContentType="image/jpeg"/>
  <Override PartName="/ppt/media/image6.jpeg" ContentType="image/jpeg"/>
  <Override PartName="/ppt/media/image34.png" ContentType="image/png"/>
  <Override PartName="/ppt/media/image36.png" ContentType="image/png"/>
  <Override PartName="/ppt/media/image11.jpeg" ContentType="image/jpeg"/>
  <Override PartName="/ppt/media/image7.wmf" ContentType="image/x-wmf"/>
  <Override PartName="/ppt/media/image37.png" ContentType="image/png"/>
  <Override PartName="/ppt/media/image30.png" ContentType="image/png"/>
  <Override PartName="/ppt/media/image28.wmf" ContentType="image/x-wmf"/>
  <Override PartName="/ppt/media/image3.jpeg" ContentType="image/jpeg"/>
  <Override PartName="/ppt/media/image24.jpeg" ContentType="image/jpeg"/>
  <Override PartName="/ppt/media/image1.jpeg" ContentType="image/jpeg"/>
  <Override PartName="/ppt/media/image15.wmf" ContentType="image/x-wmf"/>
  <Override PartName="/ppt/media/image9.png" ContentType="image/png"/>
  <Override PartName="/ppt/media/image22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1010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391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18960" y="3623760"/>
            <a:ext cx="7391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1010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0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06520" y="837720"/>
            <a:ext cx="360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18960" y="3623760"/>
            <a:ext cx="360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06520" y="3623760"/>
            <a:ext cx="360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1010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237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8080" y="837720"/>
            <a:ext cx="237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16840" y="837720"/>
            <a:ext cx="237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18960" y="3623760"/>
            <a:ext cx="237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8080" y="3623760"/>
            <a:ext cx="237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16840" y="3623760"/>
            <a:ext cx="237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1010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18960" y="837720"/>
            <a:ext cx="73911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1010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391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1010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06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06520" y="837720"/>
            <a:ext cx="3606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1010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10108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1010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0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06520" y="837720"/>
            <a:ext cx="3606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18960" y="3623760"/>
            <a:ext cx="360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1010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06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06520" y="837720"/>
            <a:ext cx="360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06520" y="3623760"/>
            <a:ext cx="360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1010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0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06520" y="837720"/>
            <a:ext cx="360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18960" y="3623760"/>
            <a:ext cx="7391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1010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8960" y="837720"/>
            <a:ext cx="7391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534520" y="66564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84C00-C8CE-49F5-8F25-6ED1C00746DC}" type="slidenum">
              <a:rPr b="1" lang="ru-RU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92280"/>
            <a:ext cx="9144000" cy="5976360"/>
            <a:chOff x="0" y="692280"/>
            <a:chExt cx="9144000" cy="5976360"/>
          </a:xfrm>
        </p:grpSpPr>
        <p:sp>
          <p:nvSpPr>
            <p:cNvPr id="5" name=""/>
            <p:cNvSpPr/>
            <p:nvPr/>
          </p:nvSpPr>
          <p:spPr>
            <a:xfrm>
              <a:off x="0" y="692280"/>
              <a:ext cx="9144000" cy="5976360"/>
            </a:xfrm>
            <a:prstGeom prst="rect">
              <a:avLst/>
            </a:prstGeom>
            <a:solidFill>
              <a:srgbClr val="ffffff">
                <a:alpha val="4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799560"/>
              <a:ext cx="9144000" cy="579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251920" y="0"/>
            <a:ext cx="849240" cy="68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13.wmf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8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9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2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2133720"/>
            <a:ext cx="9144000" cy="172692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341360"/>
            <a:ext cx="9144000" cy="0"/>
          </a:xfrm>
          <a:prstGeom prst="line">
            <a:avLst/>
          </a:prstGeom>
          <a:ln w="152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805880" y="0"/>
            <a:ext cx="1303200" cy="1050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-27000"/>
            <a:ext cx="78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ежведомственная  рабочая  группа  по приоритетному  национальному  проекту «Здоровье»  и  демографической  политике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0" y="621180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2c8fe"/>
                </a:solidFill>
                <a:latin typeface="Times New Roman"/>
              </a:rPr>
              <a:t>30 января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437000"/>
            <a:ext cx="8748720" cy="20451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9900"/>
                </a:solidFill>
                <a:latin typeface="Times New Roman"/>
              </a:rPr>
              <a:t>Хальфин Руслан Альбертович</a:t>
            </a:r>
            <a:r>
              <a:rPr b="0" i="1" lang="ru-RU" sz="2400" spc="-1" strike="noStrike">
                <a:solidFill>
                  <a:srgbClr val="ff9900"/>
                </a:solidFill>
                <a:latin typeface="Times New Roman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00"/>
                </a:solidFill>
                <a:latin typeface="Times New Roman"/>
              </a:rPr>
              <a:t>секретарь Межведомственной рабочей группы по приоритетному национальному проекту «Здоровье» и демографической политик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00"/>
                </a:solidFill>
                <a:latin typeface="Times New Roman"/>
              </a:rPr>
              <a:t>заместитель Министра</a:t>
            </a:r>
            <a:r>
              <a:rPr b="1" i="1" lang="en-US" sz="20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ff9900"/>
                </a:solidFill>
                <a:latin typeface="Times New Roman"/>
              </a:rPr>
              <a:t>здравоохранения </a:t>
            </a:r>
            <a:r>
              <a:rPr b="1" i="1" lang="en-US" sz="2000" spc="-1" strike="noStrike">
                <a:solidFill>
                  <a:srgbClr val="ff9900"/>
                </a:solidFill>
                <a:latin typeface="Times New Roman"/>
              </a:rPr>
              <a:t>  </a:t>
            </a:r>
            <a:r>
              <a:rPr b="1" i="1" lang="ru-RU" sz="2000" spc="-1" strike="noStrike">
                <a:solidFill>
                  <a:srgbClr val="ff9900"/>
                </a:solidFill>
                <a:latin typeface="Times New Roman"/>
              </a:rPr>
              <a:t>и социального </a:t>
            </a:r>
            <a:r>
              <a:rPr b="1" i="1" lang="en-US" sz="2000" spc="-1" strike="noStrike">
                <a:solidFill>
                  <a:srgbClr val="ff9900"/>
                </a:solidFill>
                <a:latin typeface="Times New Roman"/>
              </a:rPr>
              <a:t>  </a:t>
            </a:r>
            <a:r>
              <a:rPr b="1" i="1" lang="ru-RU" sz="2000" spc="-1" strike="noStrike">
                <a:solidFill>
                  <a:srgbClr val="ff9900"/>
                </a:solidFill>
                <a:latin typeface="Times New Roman"/>
              </a:rPr>
              <a:t>развития </a:t>
            </a:r>
            <a:r>
              <a:rPr b="1" i="1" lang="en-US" sz="2000" spc="-1" strike="noStrike">
                <a:solidFill>
                  <a:srgbClr val="ff9900"/>
                </a:solidFill>
                <a:latin typeface="Times New Roman"/>
              </a:rPr>
              <a:t>  </a:t>
            </a:r>
            <a:r>
              <a:rPr b="1" i="1" lang="ru-RU" sz="2000" spc="-1" strike="noStrike">
                <a:solidFill>
                  <a:srgbClr val="ff9900"/>
                </a:solidFill>
                <a:latin typeface="Times New Roman"/>
              </a:rPr>
              <a:t>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06064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варительные   итоги   реализаци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006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ду  приоритетног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ционального   проекта  в  сфере   здравоохранения  и  его  особенности  в 2007 г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810108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существление денежных выплат медицинским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ботникам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3720" y="1339920"/>
            <a:ext cx="8280720" cy="1079280"/>
          </a:xfrm>
          <a:prstGeom prst="rect">
            <a:avLst/>
          </a:prstGeom>
          <a:solidFill>
            <a:srgbClr val="d2c8fe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к   уменьшению   коэффициента   совместитель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23720" y="2563920"/>
            <a:ext cx="8280720" cy="1079280"/>
          </a:xfrm>
          <a:prstGeom prst="rect">
            <a:avLst/>
          </a:prstGeom>
          <a:solidFill>
            <a:srgbClr val="d2c8fe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к повышению  заинтересованности   врачей  в  качестве оказываемой   медицинской   помощ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23720" y="3789360"/>
            <a:ext cx="8280720" cy="1079640"/>
          </a:xfrm>
          <a:prstGeom prst="rect">
            <a:avLst/>
          </a:prstGeom>
          <a:solidFill>
            <a:srgbClr val="d2c8fe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к  укомплектованию медицинскими кадрами амбулаторно-поликлинических  учрежде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23720" y="5013360"/>
            <a:ext cx="8280720" cy="1079640"/>
          </a:xfrm>
          <a:prstGeom prst="rect">
            <a:avLst/>
          </a:prstGeom>
          <a:solidFill>
            <a:srgbClr val="d2c8fe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к улучшению  доступности  медицинской помощи для населения, проживающего в  сельской  местност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82480" y="784080"/>
            <a:ext cx="16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Привел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42920" y="2565360"/>
            <a:ext cx="2257560" cy="1609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468360" y="4365720"/>
            <a:ext cx="3019320" cy="20127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08000" y="2276640"/>
            <a:ext cx="6119640" cy="432108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805440" y="2205000"/>
            <a:ext cx="2087640" cy="4321080"/>
            <a:chOff x="6805440" y="2205000"/>
            <a:chExt cx="2087640" cy="4321080"/>
          </a:xfrm>
        </p:grpSpPr>
        <p:pic>
          <p:nvPicPr>
            <p:cNvPr id="209" name="" descr=""/>
            <p:cNvPicPr/>
            <p:nvPr/>
          </p:nvPicPr>
          <p:blipFill>
            <a:blip r:embed="rId3"/>
            <a:stretch/>
          </p:blipFill>
          <p:spPr>
            <a:xfrm>
              <a:off x="6894720" y="2332080"/>
              <a:ext cx="1998000" cy="415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6805440" y="2205000"/>
              <a:ext cx="2087640" cy="4321080"/>
            </a:xfrm>
            <a:prstGeom prst="rect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0920" y="43920"/>
            <a:ext cx="810108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снащение диагностическим оборудованием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395280" y="2708280"/>
            <a:ext cx="8064360" cy="3529080"/>
            <a:chOff x="395280" y="2708280"/>
            <a:chExt cx="8064360" cy="3529080"/>
          </a:xfrm>
        </p:grpSpPr>
        <p:graphicFrame>
          <p:nvGraphicFramePr>
            <p:cNvPr id="213" name=""/>
            <p:cNvGraphicFramePr/>
            <p:nvPr/>
          </p:nvGraphicFramePr>
          <p:xfrm>
            <a:off x="395280" y="2708280"/>
            <a:ext cx="8064360" cy="3529080"/>
          </p:xfrm>
          <a:graphic>
            <a:graphicData uri="http://schemas.openxmlformats.org/presentationml/2006/ole">
              <p:oleObj progId="Excel.Sheet.12" r:id="rId4" spid="">
                <p:embed/>
                <p:pic>
                  <p:nvPicPr>
                    <p:cNvPr id="21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95280" y="2708280"/>
                      <a:ext cx="8064360" cy="352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5" name=""/>
            <p:cNvSpPr/>
            <p:nvPr/>
          </p:nvSpPr>
          <p:spPr>
            <a:xfrm>
              <a:off x="2627280" y="5857920"/>
              <a:ext cx="1368360" cy="2160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075920" y="5757840"/>
              <a:ext cx="326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- Отечественные производител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468360" y="1125360"/>
            <a:ext cx="8280360" cy="1224000"/>
          </a:xfrm>
          <a:prstGeom prst="rect">
            <a:avLst/>
          </a:prstGeom>
          <a:solidFill>
            <a:srgbClr val="d2c8fe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ставлено 22652 ед.оборудования на общую сумму 14,3 млрд.руб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 результатам конкурсных мероприятий было заключено 54%  государственных контрактов с отечественными производителями на поставку диагностического оборуд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"/>
          <p:cNvGrpSpPr/>
          <p:nvPr/>
        </p:nvGrpSpPr>
        <p:grpSpPr>
          <a:xfrm>
            <a:off x="5364000" y="2205000"/>
            <a:ext cx="3779640" cy="2881080"/>
            <a:chOff x="5364000" y="2205000"/>
            <a:chExt cx="3779640" cy="2881080"/>
          </a:xfrm>
        </p:grpSpPr>
        <p:pic>
          <p:nvPicPr>
            <p:cNvPr id="219" name="" descr=""/>
            <p:cNvPicPr/>
            <p:nvPr/>
          </p:nvPicPr>
          <p:blipFill>
            <a:blip r:embed="rId1"/>
            <a:stretch/>
          </p:blipFill>
          <p:spPr>
            <a:xfrm>
              <a:off x="5364000" y="2388960"/>
              <a:ext cx="3779640" cy="264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5364000" y="2205000"/>
              <a:ext cx="3779640" cy="2881080"/>
            </a:xfrm>
            <a:prstGeom prst="rect">
              <a:avLst/>
            </a:prstGeom>
            <a:solidFill>
              <a:srgbClr val="fffff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0920" y="70920"/>
            <a:ext cx="810108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снащение диагностическим оборудованием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8360" y="692280"/>
            <a:ext cx="8280360" cy="1224000"/>
          </a:xfrm>
          <a:prstGeom prst="rect">
            <a:avLst/>
          </a:prstGeom>
          <a:solidFill>
            <a:srgbClr val="d2c8fe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2006 год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 всем группам оборудования отгрузки и поставки конечным получателям осуществлены на 100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60360" y="1179360"/>
          <a:ext cx="8388360" cy="3767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0360" y="1179360"/>
                    <a:ext cx="8388360" cy="37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6595920" y="2781360"/>
            <a:ext cx="1669680" cy="3682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сего: 22 6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50920" y="5507280"/>
            <a:ext cx="8642160" cy="580680"/>
          </a:xfrm>
          <a:prstGeom prst="rect">
            <a:avLst/>
          </a:prstGeom>
          <a:noFill/>
          <a:ln w="9360">
            <a:solidFill>
              <a:srgbClr val="d2c8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 10 до 7 дней снизилось время ожидания обследования в городски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мбулаторно-поликлинических учреждения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0920" y="6183000"/>
            <a:ext cx="8642160" cy="337320"/>
          </a:xfrm>
          <a:prstGeom prst="rect">
            <a:avLst/>
          </a:prstGeom>
          <a:noFill/>
          <a:ln w="9360">
            <a:solidFill>
              <a:srgbClr val="d2c8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30% снизилась платность медицински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50920" y="4859280"/>
            <a:ext cx="8642160" cy="580680"/>
          </a:xfrm>
          <a:prstGeom prst="rect">
            <a:avLst/>
          </a:prstGeom>
          <a:noFill/>
          <a:ln w="9360">
            <a:solidFill>
              <a:srgbClr val="d2c8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ля  жителей  сельских   населенных  пунктов  повысилась  доступность  медицинского обслед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0920" y="4175280"/>
            <a:ext cx="8642160" cy="580680"/>
          </a:xfrm>
          <a:prstGeom prst="rect">
            <a:avLst/>
          </a:prstGeom>
          <a:noFill/>
          <a:ln w="9360">
            <a:solidFill>
              <a:srgbClr val="d2c8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установленном оборудовании проведено более 1,0 млн. обследований и выявлено около  70 тыс. заболеваний на ранних стадия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0" y="1916280"/>
            <a:ext cx="9144000" cy="4608360"/>
            <a:chOff x="0" y="1916280"/>
            <a:chExt cx="9144000" cy="4608360"/>
          </a:xfrm>
        </p:grpSpPr>
        <p:pic>
          <p:nvPicPr>
            <p:cNvPr id="231" name="" descr=""/>
            <p:cNvPicPr/>
            <p:nvPr/>
          </p:nvPicPr>
          <p:blipFill>
            <a:blip r:embed="rId1"/>
            <a:stretch/>
          </p:blipFill>
          <p:spPr>
            <a:xfrm>
              <a:off x="330120" y="2295360"/>
              <a:ext cx="4025880" cy="250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" descr=""/>
            <p:cNvPicPr/>
            <p:nvPr/>
          </p:nvPicPr>
          <p:blipFill>
            <a:blip r:embed="rId2"/>
            <a:stretch/>
          </p:blipFill>
          <p:spPr>
            <a:xfrm>
              <a:off x="5940360" y="3860640"/>
              <a:ext cx="3203640" cy="25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0" y="1916280"/>
              <a:ext cx="9144000" cy="460836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0920" y="70920"/>
            <a:ext cx="810108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снащение автомобилями скорой медицинской помощ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68360" y="1224000"/>
            <a:ext cx="8280360" cy="1008000"/>
          </a:xfrm>
          <a:prstGeom prst="rect">
            <a:avLst/>
          </a:prstGeom>
          <a:solidFill>
            <a:srgbClr val="d2c8fe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авлены в субъекты Российской Федерации 6 722 автомобиля скорой медицинской помощи и 93 реанимобиля, что позволило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новить  каждую третью, находящуюся на линии машину скорой медицинской помощ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4000" y="3321360"/>
            <a:ext cx="8569080" cy="703800"/>
          </a:xfrm>
          <a:prstGeom prst="rect">
            <a:avLst/>
          </a:prstGeom>
          <a:noFill/>
          <a:ln w="9360">
            <a:solidFill>
              <a:srgbClr val="d2c8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улучшились показатели деятельности учреждений и подразделений скорой медицинской помощ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4000" y="4499280"/>
            <a:ext cx="8569080" cy="1374120"/>
          </a:xfrm>
          <a:prstGeom prst="rect">
            <a:avLst/>
          </a:prstGeom>
          <a:noFill/>
          <a:ln w="9360">
            <a:solidFill>
              <a:srgbClr val="d2c8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сократилось время ожидания больными бригад скорой помощ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00"/>
                </a:solidFill>
                <a:latin typeface="Arial"/>
              </a:rPr>
              <a:t>с 3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9900"/>
                </a:solidFill>
                <a:latin typeface="Arial"/>
              </a:rPr>
              <a:t>до 25 минут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повысилась эффективность оказания скорой медицинской помощи путем ее оказания </a:t>
            </a:r>
            <a:r>
              <a:rPr b="1" lang="en-US" sz="2200" spc="-1" strike="noStrike">
                <a:solidFill>
                  <a:srgbClr val="ff9900"/>
                </a:solidFill>
                <a:latin typeface="Arial"/>
              </a:rPr>
              <a:t>с первой минут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транспортиров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10800000">
            <a:off x="1547640" y="2447280"/>
            <a:ext cx="6337440" cy="431640"/>
          </a:xfrm>
          <a:prstGeom prst="triangle">
            <a:avLst>
              <a:gd name="adj" fmla="val 50000"/>
            </a:avLst>
          </a:prstGeom>
          <a:solidFill>
            <a:srgbClr val="d2c8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49200" y="265572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При  эт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0920" y="70920"/>
            <a:ext cx="810108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офилактика ВИЧ-инфекции, гепатитов В и С,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ыявление и лечение ВИЧ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907920"/>
            <a:ext cx="89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сумму 2,6 млрд.руб. поставлены в субъекты Российской Федерации в 2006 г.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50920" y="3500280"/>
            <a:ext cx="8642160" cy="2953080"/>
          </a:xfrm>
          <a:prstGeom prst="rect">
            <a:avLst/>
          </a:prstGeom>
          <a:solidFill>
            <a:srgbClr val="d2c8fe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Обследованы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1,7 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млн</a:t>
            </a: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 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Получи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- антиретровирусную терапию  -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4,4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тыс.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- полный курс химиопрофилактики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950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ВИЧ-инфицированных беременных женщин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3465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детей, рожденных от ВИЧ-инфицированных матерей и нуждавшихся в леч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84120" y="1557360"/>
            <a:ext cx="814860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Антиретровирусные препараты                            -   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446 952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 упаков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Препараты для лечения гепатитов В и С             -     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18 115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 упаков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ест-системы для диагностики ВИЧ-инфекци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гепатитов В и С                                                         -   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126 968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упаков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"/>
          <p:cNvGrpSpPr/>
          <p:nvPr/>
        </p:nvGrpSpPr>
        <p:grpSpPr>
          <a:xfrm>
            <a:off x="3635280" y="1773360"/>
            <a:ext cx="2354400" cy="4103640"/>
            <a:chOff x="3635280" y="1773360"/>
            <a:chExt cx="2354400" cy="4103640"/>
          </a:xfrm>
        </p:grpSpPr>
        <p:pic>
          <p:nvPicPr>
            <p:cNvPr id="245" name="" descr=""/>
            <p:cNvPicPr/>
            <p:nvPr/>
          </p:nvPicPr>
          <p:blipFill>
            <a:blip r:embed="rId1"/>
            <a:stretch/>
          </p:blipFill>
          <p:spPr>
            <a:xfrm>
              <a:off x="3708360" y="1830240"/>
              <a:ext cx="2281320" cy="39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3635280" y="1773360"/>
              <a:ext cx="2340000" cy="4103640"/>
            </a:xfrm>
            <a:prstGeom prst="rect">
              <a:avLst/>
            </a:prstGeom>
            <a:solidFill>
              <a:srgbClr val="fffff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148360" y="828720"/>
            <a:ext cx="3382920" cy="3031920"/>
            <a:chOff x="5148360" y="828720"/>
            <a:chExt cx="3382920" cy="3031920"/>
          </a:xfrm>
        </p:grpSpPr>
        <p:grpSp>
          <p:nvGrpSpPr>
            <p:cNvPr id="248" name=""/>
            <p:cNvGrpSpPr/>
            <p:nvPr/>
          </p:nvGrpSpPr>
          <p:grpSpPr>
            <a:xfrm>
              <a:off x="5148360" y="828720"/>
              <a:ext cx="3302280" cy="3031920"/>
              <a:chOff x="5148360" y="828720"/>
              <a:chExt cx="3302280" cy="3031920"/>
            </a:xfrm>
          </p:grpSpPr>
          <p:graphicFrame>
            <p:nvGraphicFramePr>
              <p:cNvPr id="249" name=""/>
              <p:cNvGraphicFramePr/>
              <p:nvPr/>
            </p:nvGraphicFramePr>
            <p:xfrm>
              <a:off x="5148360" y="828720"/>
              <a:ext cx="3302280" cy="3031920"/>
            </p:xfrm>
            <a:graphic>
              <a:graphicData uri="http://schemas.openxmlformats.org/presentationml/2006/ole">
                <p:oleObj progId="Excel.Sheet.12" r:id="rId2" spid="">
                  <p:embed/>
                  <p:pic>
                    <p:nvPicPr>
                      <p:cNvPr id="250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5148360" y="828720"/>
                        <a:ext cx="3302280" cy="3031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51" name=""/>
              <p:cNvSpPr/>
              <p:nvPr/>
            </p:nvSpPr>
            <p:spPr>
              <a:xfrm>
                <a:off x="5559120" y="2244600"/>
                <a:ext cx="2344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Против краснух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559840" y="1092240"/>
                <a:ext cx="205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Против грипп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31640" y="2903400"/>
                <a:ext cx="21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5 000 000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человек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687280" y="1714680"/>
                <a:ext cx="2310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2 000 000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человек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333480" y="1484280"/>
                <a:ext cx="891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99,6 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954400" y="2671920"/>
                <a:ext cx="1017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79,69 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5291280" y="981000"/>
              <a:ext cx="3240000" cy="11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0920" y="70920"/>
            <a:ext cx="810108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Иммунизация населения в рамках 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национального календаря прививок, а также гриппа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587520" y="2276640"/>
            <a:ext cx="4055760" cy="2663280"/>
            <a:chOff x="587520" y="2276640"/>
            <a:chExt cx="4055760" cy="2663280"/>
          </a:xfrm>
        </p:grpSpPr>
        <p:graphicFrame>
          <p:nvGraphicFramePr>
            <p:cNvPr id="260" name=""/>
            <p:cNvGraphicFramePr/>
            <p:nvPr/>
          </p:nvGraphicFramePr>
          <p:xfrm>
            <a:off x="587520" y="2357280"/>
            <a:ext cx="4055760" cy="2582640"/>
          </p:xfrm>
          <a:graphic>
            <a:graphicData uri="http://schemas.openxmlformats.org/presentationml/2006/ole">
              <p:oleObj progId="Excel.Sheet.12" r:id="rId4" spid="">
                <p:embed/>
                <p:pic>
                  <p:nvPicPr>
                    <p:cNvPr id="26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87520" y="2357280"/>
                      <a:ext cx="4055760" cy="258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2" name=""/>
            <p:cNvSpPr/>
            <p:nvPr/>
          </p:nvSpPr>
          <p:spPr>
            <a:xfrm>
              <a:off x="949680" y="4246560"/>
              <a:ext cx="199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50 000 челове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76720" y="269856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436840" y="316692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579680" y="371304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57520" y="271764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74,76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91200" y="2276640"/>
              <a:ext cx="303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Против полиомиели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3054240" y="1916280"/>
            <a:ext cx="27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тоги иммун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8360" y="1052640"/>
            <a:ext cx="8136000" cy="792000"/>
          </a:xfrm>
          <a:prstGeom prst="rect">
            <a:avLst/>
          </a:prstGeom>
          <a:solidFill>
            <a:srgbClr val="d2c8fe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авка вакцин против полиомиелита, краснухи, гепатита В, гриппа  осуществлена в полном объеме на общую сумм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,5 млрд.ру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5154480" y="4048200"/>
            <a:ext cx="3738600" cy="2476440"/>
            <a:chOff x="5154480" y="4048200"/>
            <a:chExt cx="3738600" cy="2476440"/>
          </a:xfrm>
        </p:grpSpPr>
        <p:grpSp>
          <p:nvGrpSpPr>
            <p:cNvPr id="271" name=""/>
            <p:cNvGrpSpPr/>
            <p:nvPr/>
          </p:nvGrpSpPr>
          <p:grpSpPr>
            <a:xfrm>
              <a:off x="5154480" y="4048200"/>
              <a:ext cx="3738600" cy="2476440"/>
              <a:chOff x="5154480" y="4048200"/>
              <a:chExt cx="3738600" cy="2476440"/>
            </a:xfrm>
          </p:grpSpPr>
          <p:graphicFrame>
            <p:nvGraphicFramePr>
              <p:cNvPr id="272" name=""/>
              <p:cNvGraphicFramePr/>
              <p:nvPr/>
            </p:nvGraphicFramePr>
            <p:xfrm>
              <a:off x="5154480" y="4152960"/>
              <a:ext cx="3738600" cy="2371680"/>
            </p:xfrm>
            <a:graphic>
              <a:graphicData uri="http://schemas.openxmlformats.org/presentationml/2006/ole">
                <p:oleObj progId="Excel.Sheet.12" r:id="rId6" spid="">
                  <p:embed/>
                  <p:pic>
                    <p:nvPicPr>
                      <p:cNvPr id="273" name="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5154480" y="4152960"/>
                        <a:ext cx="3738600" cy="2371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74" name=""/>
              <p:cNvSpPr/>
              <p:nvPr/>
            </p:nvSpPr>
            <p:spPr>
              <a:xfrm>
                <a:off x="5641200" y="5829480"/>
                <a:ext cx="2309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 000 000 человек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654520" y="4048200"/>
                <a:ext cx="2530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Против гепатита В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>
              <a:off x="7999560" y="436428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886880" y="486252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712280" y="536580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79" name=""/>
          <p:cNvGraphicFramePr/>
          <p:nvPr/>
        </p:nvGraphicFramePr>
        <p:xfrm>
          <a:off x="250920" y="4869000"/>
          <a:ext cx="3600360" cy="1503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50920" y="4869000"/>
                    <a:ext cx="3600360" cy="15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0" y="836640"/>
            <a:ext cx="2570040" cy="4103640"/>
            <a:chOff x="0" y="836640"/>
            <a:chExt cx="2570040" cy="4103640"/>
          </a:xfrm>
        </p:grpSpPr>
        <p:pic>
          <p:nvPicPr>
            <p:cNvPr id="282" name="" descr=""/>
            <p:cNvPicPr/>
            <p:nvPr/>
          </p:nvPicPr>
          <p:blipFill>
            <a:blip r:embed="rId1"/>
            <a:stretch/>
          </p:blipFill>
          <p:spPr>
            <a:xfrm>
              <a:off x="288720" y="893520"/>
              <a:ext cx="2281320" cy="39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0" y="836640"/>
              <a:ext cx="2339640" cy="4103640"/>
            </a:xfrm>
            <a:prstGeom prst="rect">
              <a:avLst/>
            </a:prstGeom>
            <a:solidFill>
              <a:srgbClr val="fffff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250920" y="1318680"/>
            <a:ext cx="8785080" cy="1557000"/>
          </a:xfrm>
          <a:prstGeom prst="rect">
            <a:avLst/>
          </a:prstGeom>
          <a:noFill/>
          <a:ln w="25560">
            <a:solidFill>
              <a:srgbClr val="d2c8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первые было охвачено прививкой против гепатита В около 10 млн.ч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болеваемость гепатитом В снизилась на 1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115920"/>
            <a:ext cx="731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ммунизация населения в рамках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национального календаря прививок, а также грип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0920" y="3279240"/>
            <a:ext cx="8785080" cy="3020040"/>
          </a:xfrm>
          <a:prstGeom prst="rect">
            <a:avLst/>
          </a:prstGeom>
          <a:noFill/>
          <a:ln w="25560">
            <a:solidFill>
              <a:srgbClr val="d2c8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ссовой иммунизацией населения против гриппа было охвачено более 21 млн.чел., что в 5,4 раза больше, чем в 2005 год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болеваемость гриппом снижена в 1,8 раза, не зарегистрирована эпидемия гриппа в Российской Федераци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rot="10800000">
            <a:off x="1476360" y="2131200"/>
            <a:ext cx="6337440" cy="289080"/>
          </a:xfrm>
          <a:prstGeom prst="triangle">
            <a:avLst>
              <a:gd name="adj" fmla="val 50000"/>
            </a:avLst>
          </a:prstGeom>
          <a:solidFill>
            <a:srgbClr val="d2c8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10800000">
            <a:off x="1403280" y="4579200"/>
            <a:ext cx="6337440" cy="289080"/>
          </a:xfrm>
          <a:prstGeom prst="triangle">
            <a:avLst>
              <a:gd name="adj" fmla="val 50000"/>
            </a:avLst>
          </a:prstGeom>
          <a:solidFill>
            <a:srgbClr val="d2c8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924360" y="2133720"/>
            <a:ext cx="1655640" cy="4316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780000" y="4581360"/>
            <a:ext cx="1655640" cy="432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0920" y="70920"/>
            <a:ext cx="810108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Обследование новорожденных детей на галактоземию, адреногенитальный синдром и муковисцидоз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79280" y="1557360"/>
            <a:ext cx="8713800" cy="3816360"/>
          </a:xfrm>
          <a:prstGeom prst="rect">
            <a:avLst/>
          </a:prstGeom>
          <a:solidFill>
            <a:srgbClr val="d2c8fe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072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3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убъектах  Российской Федерации поставлены и введены в эксплуатацию многофункциональные автоматизированные комплектные лаборатории для проведения неонатального скрининг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27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5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убъекта Российской Федерации поставлено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4650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оров реагентов для проведения скрининговых исследов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6877080" y="4508640"/>
            <a:ext cx="2016000" cy="1368360"/>
            <a:chOff x="6877080" y="4508640"/>
            <a:chExt cx="2016000" cy="1368360"/>
          </a:xfrm>
        </p:grpSpPr>
        <p:pic>
          <p:nvPicPr>
            <p:cNvPr id="294" name="" descr=""/>
            <p:cNvPicPr/>
            <p:nvPr/>
          </p:nvPicPr>
          <p:blipFill>
            <a:blip r:embed="rId1"/>
            <a:stretch/>
          </p:blipFill>
          <p:spPr>
            <a:xfrm>
              <a:off x="7021440" y="4581720"/>
              <a:ext cx="1794960" cy="119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6877080" y="4508640"/>
              <a:ext cx="2016000" cy="1368360"/>
            </a:xfrm>
            <a:prstGeom prst="rect">
              <a:avLst/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539280" y="4724280"/>
            <a:ext cx="842508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Поставка оборудования и наборов тест-систем согласно государственным контрактам и графиков поставок была начата в июне </a:t>
            </a:r>
            <a:endParaRPr b="1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тсутствие практического опыта в проведении скрининговых исследований </a:t>
            </a:r>
            <a:endParaRPr b="1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468360" y="907920"/>
            <a:ext cx="8422920" cy="1884600"/>
            <a:chOff x="468360" y="907920"/>
            <a:chExt cx="8422920" cy="1884600"/>
          </a:xfrm>
        </p:grpSpPr>
        <p:sp>
          <p:nvSpPr>
            <p:cNvPr id="298" name=""/>
            <p:cNvSpPr/>
            <p:nvPr/>
          </p:nvSpPr>
          <p:spPr>
            <a:xfrm>
              <a:off x="468360" y="1352520"/>
              <a:ext cx="446400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адреногенитальный синдро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337000" y="1352520"/>
              <a:ext cx="20894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1792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617 866</a:t>
              </a:r>
              <a:r>
                <a:rPr b="0" lang="en-US" sz="18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812000" y="1352520"/>
              <a:ext cx="863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1792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8360" y="1857600"/>
              <a:ext cx="4464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муковисцидоз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337000" y="1857600"/>
              <a:ext cx="20894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1792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628 085</a:t>
              </a:r>
              <a:r>
                <a:rPr b="0" lang="en-US" sz="18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812000" y="1857600"/>
              <a:ext cx="863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1792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68360" y="2360520"/>
              <a:ext cx="446400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галактоземи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337000" y="2360520"/>
              <a:ext cx="20894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1792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278 853</a:t>
              </a:r>
              <a:r>
                <a:rPr b="0" lang="en-US" sz="18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812000" y="2360520"/>
              <a:ext cx="863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1792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533920" y="907920"/>
              <a:ext cx="172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Обследован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526520" y="914400"/>
              <a:ext cx="136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Выявлен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468360" y="3705120"/>
            <a:ext cx="849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Целевая цифра в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1 млн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обследованных новорожденных до конца года не была достигнута по следующим причина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title"/>
          </p:nvPr>
        </p:nvSpPr>
        <p:spPr>
          <a:xfrm>
            <a:off x="70920" y="70920"/>
            <a:ext cx="810108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Обследование новорожденных детей на галактоземию, адреногенитальный синдром и муковисцидоз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77760" y="4365720"/>
            <a:ext cx="954000" cy="143028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0" y="4292640"/>
            <a:ext cx="1116000" cy="17287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77720" y="3068640"/>
            <a:ext cx="834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воевременно начато лечение больным детям, что позволило сохранить им жизнь и улучшить ее качеств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0920" y="216000"/>
            <a:ext cx="81010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ополнительная  диспансеризация работников бюджетной сферы в  возрасте  35-55  лет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95280" y="1771560"/>
            <a:ext cx="2232000" cy="122400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ФОМ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,0 млрд.ру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419640" y="1771560"/>
            <a:ext cx="2232000" cy="122400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ФОМ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,6 млрд. ру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80,33%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516720" y="1771560"/>
            <a:ext cx="2232000" cy="122400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П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,5 млрд.ру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75%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2357280" y="2292480"/>
            <a:ext cx="1368720" cy="180720"/>
          </a:xfrm>
          <a:prstGeom prst="triangle">
            <a:avLst>
              <a:gd name="adj" fmla="val 50000"/>
            </a:avLst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rot="5400000">
            <a:off x="5452920" y="2293920"/>
            <a:ext cx="1368360" cy="180720"/>
          </a:xfrm>
          <a:prstGeom prst="triangle">
            <a:avLst>
              <a:gd name="adj" fmla="val 50000"/>
            </a:avLst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68360" y="3789360"/>
            <a:ext cx="8136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исленность работающих граждан, прошедших диспансеризацию, счета за которых оплачены ТФОМС, –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 929 154 человек (72,5%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68360" y="5196600"/>
            <a:ext cx="7991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Целевые показатели данного мероприятия Проекта не достигнуты в связи с поздним началом реализации Проекта субъектами Российской Федерации (июль-август 2006 года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4920" y="71280"/>
            <a:ext cx="785664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иоритетный национальный проект в сфере здравоохра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73200" y="2603520"/>
          <a:ext cx="7931160" cy="2625840"/>
        </p:xfrm>
        <a:graphic>
          <a:graphicData uri="http://schemas.openxmlformats.org/drawingml/2006/table">
            <a:tbl>
              <a:tblPr/>
              <a:tblGrid>
                <a:gridCol w="5194080"/>
                <a:gridCol w="1297080"/>
                <a:gridCol w="1440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Нормативные правовые ак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006 г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007 г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деральные зако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ановления Правительств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сийской Федера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казы Минздравсоцразвития Росс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610920" y="1176480"/>
            <a:ext cx="747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Подготовлены и утвержде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в 2006 году –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 нормативных правовых а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в 2007 году –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17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 нормативных правовых а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6588000" y="836640"/>
            <a:ext cx="2556000" cy="1871640"/>
            <a:chOff x="6588000" y="836640"/>
            <a:chExt cx="2556000" cy="1871640"/>
          </a:xfrm>
        </p:grpSpPr>
        <p:pic>
          <p:nvPicPr>
            <p:cNvPr id="323" name="" descr=""/>
            <p:cNvPicPr/>
            <p:nvPr/>
          </p:nvPicPr>
          <p:blipFill>
            <a:blip r:embed="rId1"/>
            <a:stretch/>
          </p:blipFill>
          <p:spPr>
            <a:xfrm>
              <a:off x="6877080" y="907920"/>
              <a:ext cx="2016000" cy="149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6588000" y="836640"/>
              <a:ext cx="2556000" cy="1871640"/>
            </a:xfrm>
            <a:prstGeom prst="rect">
              <a:avLst/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810108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Дополнительная диспансеризация и дополнительные медицинские осмотры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23640" y="2060280"/>
            <a:ext cx="84358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сего  прошло  дополнительную  диспансеризацию  и медицинские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осмотры   –  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6,7 млн.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  человек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,   что составило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7%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от всего трудоспособного населения, при этом свыше 50% были лица в возрасте 35-55 ле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ыявлено  около 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46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тысяч  новых  случаев  сахарного диабета,   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6700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злокачественных   новообразований, более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670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случаев туберкулез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аннее выявление заболеваний у обследованных, работающих граждан, в рамках проекта, позволило предотвратить их инвалидизацию, а возможно и преждевременную смертность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7" name=""/>
          <p:cNvGraphicFramePr/>
          <p:nvPr/>
        </p:nvGraphicFramePr>
        <p:xfrm>
          <a:off x="-541440" y="1808280"/>
          <a:ext cx="5924520" cy="361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41440" y="1808280"/>
                    <a:ext cx="592452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810108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ополнительная диспансеризация и дополнительные медицинские осмотры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4643280" y="1965240"/>
          <a:ext cx="4427640" cy="3300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965240"/>
                    <a:ext cx="4427640" cy="33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"/>
          <p:cNvSpPr/>
          <p:nvPr/>
        </p:nvSpPr>
        <p:spPr>
          <a:xfrm>
            <a:off x="174600" y="1158840"/>
            <a:ext cx="443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ополнительная диспансеризация работников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юджетной сферы в возрасте 35-55 л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637520" y="1177920"/>
            <a:ext cx="454860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ополнительные медицинские осмотры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аботников, занятых на работах с вредными и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или) опасными производственными фактор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418040" y="4616280"/>
            <a:ext cx="72856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группа - практически здоровы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I группа - риск развития заболева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II группа - нуждаются в дополнительном обследовании, лечении в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амбулаторно-поликлинических условия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V группа - нуждаются в дополнительном обследовании, лечении в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стационарных условиях субъекта Российской Федераци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 группа - нуждаются в ДВМ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338200" y="836640"/>
            <a:ext cx="492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Распределение по группам здоров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581280" y="2711520"/>
            <a:ext cx="1295640" cy="533160"/>
          </a:xfrm>
          <a:prstGeom prst="wedgeEllipseCallout">
            <a:avLst>
              <a:gd name="adj1" fmla="val -34560"/>
              <a:gd name="adj2" fmla="val 535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956720" y="4473720"/>
            <a:ext cx="936360" cy="676080"/>
          </a:xfrm>
          <a:prstGeom prst="wedgeEllipseCallout">
            <a:avLst>
              <a:gd name="adj1" fmla="val -19152"/>
              <a:gd name="adj2" fmla="val -10680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9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7120" y="117360"/>
            <a:ext cx="78692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казатели заболеваемости (%) в 4 кв. 2006 года по сравнению с 3 кв. 2006 год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179280" y="1197000"/>
          <a:ext cx="8785440" cy="51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197000"/>
                    <a:ext cx="878544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885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зменение расходов по временной нетрудоспособности (%) в 4 кв. 2006 года по сравнению с 3 кв. 2006 год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179280" y="1197000"/>
          <a:ext cx="8785440" cy="51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197000"/>
                    <a:ext cx="878544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172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спределение работающих во вредных и опасных условиях труда по состоянию здоровья по ДМО в 2006 году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8785440" cy="494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0920" y="70920"/>
            <a:ext cx="810108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Дополнительная оплата амбулаторно-поликлинической помощи, оказанной неработающим пенсионерам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79280" y="1700280"/>
            <a:ext cx="882036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 2006 г. направлено субсидий в рамках территориальной программы ОМС  на общую сумму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4 349,3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млн. рубл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Увеличение числа амбулаторно-поликлинических посещений на 1 неработающего пенсионера в месяц с 2,8 до 4,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0920" y="70920"/>
            <a:ext cx="810108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казание медицинской помощи женщинам в период беременности и родов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95280" y="3932280"/>
            <a:ext cx="8424720" cy="1728720"/>
          </a:xfrm>
          <a:prstGeom prst="rect">
            <a:avLst/>
          </a:prstGeom>
          <a:solidFill>
            <a:srgbClr val="d2c8fe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95280" y="2565360"/>
            <a:ext cx="8424720" cy="1008000"/>
          </a:xfrm>
          <a:prstGeom prst="rect">
            <a:avLst/>
          </a:prstGeom>
          <a:solidFill>
            <a:srgbClr val="d2c8fe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Число зарегистрированных родившихся составило 1 358 5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28720" y="1197360"/>
            <a:ext cx="755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щий объем средств, предусмотренных на реализацию в 2006 году программы родового сертификата, составил 10,5 млрд. руб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65120" y="4294080"/>
            <a:ext cx="8278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мбулаторную  помощь в период беременности  и медицинскую помощь  в  период   родов  оказана  1,3 млн. женщин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"/>
          <p:cNvGrpSpPr/>
          <p:nvPr/>
        </p:nvGrpSpPr>
        <p:grpSpPr>
          <a:xfrm>
            <a:off x="5867280" y="1844640"/>
            <a:ext cx="3276720" cy="4680000"/>
            <a:chOff x="5867280" y="1844640"/>
            <a:chExt cx="3276720" cy="4680000"/>
          </a:xfrm>
        </p:grpSpPr>
        <p:pic>
          <p:nvPicPr>
            <p:cNvPr id="354" name="" descr=""/>
            <p:cNvPicPr/>
            <p:nvPr/>
          </p:nvPicPr>
          <p:blipFill>
            <a:blip r:embed="rId1"/>
            <a:stretch/>
          </p:blipFill>
          <p:spPr>
            <a:xfrm>
              <a:off x="6014880" y="1989000"/>
              <a:ext cx="3021120" cy="449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5867280" y="1844640"/>
              <a:ext cx="3276720" cy="4680000"/>
            </a:xfrm>
            <a:prstGeom prst="rect">
              <a:avLst/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0920" y="70920"/>
            <a:ext cx="810108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казание медицинской помощи женщинам в период беременности и родов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24000" y="1915920"/>
            <a:ext cx="8604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казатель младенческой смертности в целом по Российской Федерации снизился с 10,8 на 1000 родившихся живыми в 2005 году до 10,3 – в 2006 году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анные за 11 мес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казатель ранней неонатальной смертности снизился  на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% (c 4,49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 4,27 на 1000 родившихся живыми) и перинатальной смертности на 5% (с 10,17 до 9,66 на 1000 родившихся живыми и мертвыми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личество посещений беременными женских консультаций увеличилось в  среднем с 10 до 12 за период наблюдения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хват беременных женщин пренатальным скринингом с целью выявления пороков развития плода увеличился в среднем на 7% (с 81,5 до 87%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ъемы  стационарозамещающей помощи на амбулаторно-поликлиническом этапе увеличились на 5-10% (с 14 до 16%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ля женщин, вставших на учет по беременности в ранние сроки, увеличилась в среднем на 9% (с 74 до 79%)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68360" y="981000"/>
            <a:ext cx="8209080" cy="719280"/>
          </a:xfrm>
          <a:prstGeom prst="rect">
            <a:avLst/>
          </a:prstGeom>
          <a:solidFill>
            <a:srgbClr val="d2c8fe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едицинский эффект от внедрения родовых сертификат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"/>
          <p:cNvGrpSpPr/>
          <p:nvPr/>
        </p:nvGrpSpPr>
        <p:grpSpPr>
          <a:xfrm>
            <a:off x="5867280" y="1844640"/>
            <a:ext cx="3276720" cy="4680000"/>
            <a:chOff x="5867280" y="1844640"/>
            <a:chExt cx="3276720" cy="4680000"/>
          </a:xfrm>
        </p:grpSpPr>
        <p:pic>
          <p:nvPicPr>
            <p:cNvPr id="360" name="" descr=""/>
            <p:cNvPicPr/>
            <p:nvPr/>
          </p:nvPicPr>
          <p:blipFill>
            <a:blip r:embed="rId1"/>
            <a:stretch/>
          </p:blipFill>
          <p:spPr>
            <a:xfrm>
              <a:off x="6014880" y="1989000"/>
              <a:ext cx="3021120" cy="449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5867280" y="1844640"/>
              <a:ext cx="3276720" cy="4680000"/>
            </a:xfrm>
            <a:prstGeom prst="rect">
              <a:avLst/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0920" y="70920"/>
            <a:ext cx="810108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казание медицинской помощи женщинам в период беременности и родов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6040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недрена новая форма работы – активный патронаж беременных на дому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высилась эффективность диагностических и лечебных мероприятий по профилактике невынашивания беременности, инфекций, передаваемых половым путем и ВИЧ-инфекции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ктивизировалась работа по профилактике абортов и формированию позитивного настроя на деторождение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 8% увеличилось количество родильных домов, участвующих в мониторинге врожденных пороков развития плода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явилась возможность приобретения дорогостоящих препаратов для реанимации новорожденных, борьбы с акушерскими кровотечениями, лечения инфекционных осложнений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кратилось число платных услуг по обследованию и лечению патологии у беременных женщин.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68360" y="981000"/>
            <a:ext cx="8209080" cy="719280"/>
          </a:xfrm>
          <a:prstGeom prst="rect">
            <a:avLst/>
          </a:prstGeom>
          <a:solidFill>
            <a:srgbClr val="d2c8fe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едицинский эффект от внедрения родовых сертификат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"/>
          <p:cNvGrpSpPr/>
          <p:nvPr/>
        </p:nvGrpSpPr>
        <p:grpSpPr>
          <a:xfrm>
            <a:off x="5867280" y="1844640"/>
            <a:ext cx="3276720" cy="4680000"/>
            <a:chOff x="5867280" y="1844640"/>
            <a:chExt cx="3276720" cy="4680000"/>
          </a:xfrm>
        </p:grpSpPr>
        <p:pic>
          <p:nvPicPr>
            <p:cNvPr id="366" name="" descr=""/>
            <p:cNvPicPr/>
            <p:nvPr/>
          </p:nvPicPr>
          <p:blipFill>
            <a:blip r:embed="rId1"/>
            <a:stretch/>
          </p:blipFill>
          <p:spPr>
            <a:xfrm>
              <a:off x="6014880" y="1989000"/>
              <a:ext cx="3021120" cy="449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5867280" y="1844640"/>
              <a:ext cx="3276720" cy="4680000"/>
            </a:xfrm>
            <a:prstGeom prst="rect">
              <a:avLst/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0920" y="70920"/>
            <a:ext cx="810108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казание медицинской помощи женщинам в период беременности и родов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24000" y="1915920"/>
            <a:ext cx="86040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Существенно повысилась заработная плата врачей, среднего и младшего медицинского персонала амбулаторно-поликлинических и стационарных учреждений здравоохранения, оказывающих медицинскую помощь женщинам в период беременности и родов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Увеличилось финансирование лекарственного обеспечения в родильных домах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Реализуется право выбора женской консультации и родильного дома, создается здоровая конкуренция среди учреждений здравоохранения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Улучшилось качество обслуживания беременных в женски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консультациях и родильных домах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68360" y="981000"/>
            <a:ext cx="8209080" cy="719280"/>
          </a:xfrm>
          <a:prstGeom prst="rect">
            <a:avLst/>
          </a:prstGeom>
          <a:solidFill>
            <a:srgbClr val="d2c8fe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циально-экономический эффект от внедрения родовых сертификат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0920" y="1079640"/>
            <a:ext cx="6265800" cy="520200"/>
          </a:xfrm>
          <a:prstGeom prst="rect">
            <a:avLst/>
          </a:prstGeom>
          <a:noFill/>
          <a:ln w="9360">
            <a:solidFill>
              <a:srgbClr val="d2c8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дготовка врачей по специальностям «Общая врачебная практика(семейная медицина)», «Терапия» и «Педиатри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784920" y="1079640"/>
            <a:ext cx="873360" cy="520200"/>
          </a:xfrm>
          <a:prstGeom prst="rect">
            <a:avLst/>
          </a:prstGeom>
          <a:noFill/>
          <a:ln w="9360">
            <a:solidFill>
              <a:srgbClr val="d2c8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956720" y="1079640"/>
            <a:ext cx="865080" cy="520200"/>
          </a:xfrm>
          <a:prstGeom prst="rect">
            <a:avLst/>
          </a:prstGeom>
          <a:noFill/>
          <a:ln w="9360">
            <a:solidFill>
              <a:srgbClr val="d2c8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,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1627200"/>
            <a:ext cx="6265800" cy="520200"/>
          </a:xfrm>
          <a:prstGeom prst="rect">
            <a:avLst/>
          </a:prstGeom>
          <a:noFill/>
          <a:ln w="9360">
            <a:solidFill>
              <a:srgbClr val="d2c8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уществление денежных выпла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дицинскому персоналу, оказывающему первичную медико-санитарную помощ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94640" y="1627200"/>
            <a:ext cx="873000" cy="520200"/>
          </a:xfrm>
          <a:prstGeom prst="rect">
            <a:avLst/>
          </a:prstGeom>
          <a:noFill/>
          <a:ln w="9360">
            <a:solidFill>
              <a:srgbClr val="d2c8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966080" y="1627200"/>
            <a:ext cx="865080" cy="520200"/>
          </a:xfrm>
          <a:prstGeom prst="rect">
            <a:avLst/>
          </a:prstGeom>
          <a:noFill/>
          <a:ln w="9360">
            <a:solidFill>
              <a:srgbClr val="d2c8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2189160"/>
            <a:ext cx="6265800" cy="520200"/>
          </a:xfrm>
          <a:prstGeom prst="rect">
            <a:avLst/>
          </a:prstGeom>
          <a:noFill/>
          <a:ln w="9360">
            <a:solidFill>
              <a:srgbClr val="d2c8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уществление денежных выплат медицинскому персоналу ФАПов и скорой медицинской помощ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794640" y="2189160"/>
            <a:ext cx="873000" cy="520200"/>
          </a:xfrm>
          <a:prstGeom prst="rect">
            <a:avLst/>
          </a:prstGeom>
          <a:noFill/>
          <a:ln w="9360">
            <a:solidFill>
              <a:srgbClr val="d2c8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,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966080" y="2189160"/>
            <a:ext cx="865080" cy="520200"/>
          </a:xfrm>
          <a:prstGeom prst="rect">
            <a:avLst/>
          </a:prstGeom>
          <a:noFill/>
          <a:ln w="9360">
            <a:solidFill>
              <a:srgbClr val="d2c8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,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2751120"/>
            <a:ext cx="6265800" cy="307080"/>
          </a:xfrm>
          <a:prstGeom prst="rect">
            <a:avLst/>
          </a:prstGeom>
          <a:noFill/>
          <a:ln w="9360">
            <a:solidFill>
              <a:srgbClr val="d2c8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снащение диагностическим оборудовани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89600" y="2751120"/>
            <a:ext cx="873360" cy="307080"/>
          </a:xfrm>
          <a:prstGeom prst="rect">
            <a:avLst/>
          </a:prstGeom>
          <a:noFill/>
          <a:ln w="9360">
            <a:solidFill>
              <a:srgbClr val="d2c8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961400" y="2751120"/>
            <a:ext cx="865080" cy="307080"/>
          </a:xfrm>
          <a:prstGeom prst="rect">
            <a:avLst/>
          </a:prstGeom>
          <a:noFill/>
          <a:ln w="9360">
            <a:solidFill>
              <a:srgbClr val="d2c8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3112920"/>
            <a:ext cx="6265800" cy="307080"/>
          </a:xfrm>
          <a:prstGeom prst="rect">
            <a:avLst/>
          </a:prstGeom>
          <a:noFill/>
          <a:ln w="9360">
            <a:solidFill>
              <a:srgbClr val="d2c8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снащение автомобилями скорой медицинской помощ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89600" y="3112920"/>
            <a:ext cx="873360" cy="307080"/>
          </a:xfrm>
          <a:prstGeom prst="rect">
            <a:avLst/>
          </a:prstGeom>
          <a:noFill/>
          <a:ln w="9360">
            <a:solidFill>
              <a:srgbClr val="d2c8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961400" y="3112920"/>
            <a:ext cx="865080" cy="307080"/>
          </a:xfrm>
          <a:prstGeom prst="rect">
            <a:avLst/>
          </a:prstGeom>
          <a:noFill/>
          <a:ln w="9360">
            <a:solidFill>
              <a:srgbClr val="d2c8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0920" y="3459240"/>
            <a:ext cx="6265800" cy="733320"/>
          </a:xfrm>
          <a:prstGeom prst="rect">
            <a:avLst/>
          </a:prstGeom>
          <a:noFill/>
          <a:ln w="9360">
            <a:solidFill>
              <a:srgbClr val="d2c8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следование населения с целью выявления ВИЧ -инфицированных и инфицированных вирусом гепатита В и 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Проведение мероприятий по профилакти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89600" y="3459240"/>
            <a:ext cx="873360" cy="733320"/>
          </a:xfrm>
          <a:prstGeom prst="rect">
            <a:avLst/>
          </a:prstGeom>
          <a:noFill/>
          <a:ln w="9360">
            <a:solidFill>
              <a:srgbClr val="d2c8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0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961400" y="3459240"/>
            <a:ext cx="865080" cy="733320"/>
          </a:xfrm>
          <a:prstGeom prst="rect">
            <a:avLst/>
          </a:prstGeom>
          <a:noFill/>
          <a:ln w="9360">
            <a:solidFill>
              <a:srgbClr val="d2c8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0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0920" y="4238640"/>
            <a:ext cx="6265800" cy="520200"/>
          </a:xfrm>
          <a:prstGeom prst="rect">
            <a:avLst/>
          </a:prstGeom>
          <a:noFill/>
          <a:ln w="9360">
            <a:solidFill>
              <a:srgbClr val="d2c8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ведение дополнительной иммунизации населения в рамках Национального календаря профилактических прививок, а также грипп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789600" y="4238640"/>
            <a:ext cx="873360" cy="520200"/>
          </a:xfrm>
          <a:prstGeom prst="rect">
            <a:avLst/>
          </a:prstGeom>
          <a:noFill/>
          <a:ln w="9360">
            <a:solidFill>
              <a:srgbClr val="d2c8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961400" y="4238640"/>
            <a:ext cx="865080" cy="520200"/>
          </a:xfrm>
          <a:prstGeom prst="rect">
            <a:avLst/>
          </a:prstGeom>
          <a:noFill/>
          <a:ln w="9360">
            <a:solidFill>
              <a:srgbClr val="d2c8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4786200"/>
            <a:ext cx="6265800" cy="520200"/>
          </a:xfrm>
          <a:prstGeom prst="rect">
            <a:avLst/>
          </a:prstGeom>
          <a:noFill/>
          <a:ln w="9360">
            <a:solidFill>
              <a:srgbClr val="d2c8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следование новорожденных детей на галактоземию, муковисцидоз и адреногенитальный синдр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89600" y="4786200"/>
            <a:ext cx="873360" cy="520200"/>
          </a:xfrm>
          <a:prstGeom prst="rect">
            <a:avLst/>
          </a:prstGeom>
          <a:noFill/>
          <a:ln w="9360">
            <a:solidFill>
              <a:srgbClr val="d2c8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961400" y="4786200"/>
            <a:ext cx="865080" cy="520200"/>
          </a:xfrm>
          <a:prstGeom prst="rect">
            <a:avLst/>
          </a:prstGeom>
          <a:noFill/>
          <a:ln w="9360">
            <a:solidFill>
              <a:srgbClr val="d2c8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644880" y="476280"/>
            <a:ext cx="118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лрд. ру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875000" y="485640"/>
            <a:ext cx="118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а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лрд. ру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5337000"/>
            <a:ext cx="6265800" cy="307080"/>
          </a:xfrm>
          <a:prstGeom prst="rect">
            <a:avLst/>
          </a:prstGeom>
          <a:noFill/>
          <a:ln w="9360">
            <a:solidFill>
              <a:srgbClr val="d2c8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троительство федеральных центров высоких медицинских технолог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789600" y="5337000"/>
            <a:ext cx="873360" cy="307080"/>
          </a:xfrm>
          <a:prstGeom prst="rect">
            <a:avLst/>
          </a:prstGeom>
          <a:noFill/>
          <a:ln w="9360">
            <a:solidFill>
              <a:srgbClr val="d2c8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961400" y="5337000"/>
            <a:ext cx="865080" cy="307080"/>
          </a:xfrm>
          <a:prstGeom prst="rect">
            <a:avLst/>
          </a:prstGeom>
          <a:noFill/>
          <a:ln w="9360">
            <a:solidFill>
              <a:srgbClr val="d2c8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,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5695920"/>
            <a:ext cx="6265800" cy="520200"/>
          </a:xfrm>
          <a:prstGeom prst="rect">
            <a:avLst/>
          </a:prstGeom>
          <a:noFill/>
          <a:ln w="9360">
            <a:solidFill>
              <a:srgbClr val="d2c8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казание высокотехнологичной медицинской помощи на основе государственного зад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789600" y="5695920"/>
            <a:ext cx="873360" cy="520200"/>
          </a:xfrm>
          <a:prstGeom prst="rect">
            <a:avLst/>
          </a:prstGeom>
          <a:noFill/>
          <a:ln w="9360">
            <a:solidFill>
              <a:srgbClr val="d2c8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,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961400" y="5695920"/>
            <a:ext cx="865080" cy="520200"/>
          </a:xfrm>
          <a:prstGeom prst="rect">
            <a:avLst/>
          </a:prstGeom>
          <a:noFill/>
          <a:ln w="9360">
            <a:solidFill>
              <a:srgbClr val="d2c8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0920" y="6265800"/>
            <a:ext cx="6265800" cy="307080"/>
          </a:xfrm>
          <a:prstGeom prst="rect">
            <a:avLst/>
          </a:prstGeom>
          <a:noFill/>
          <a:ln w="9360">
            <a:solidFill>
              <a:srgbClr val="d2c8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нформационная поддержка и управление проек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89600" y="6265800"/>
            <a:ext cx="873360" cy="307080"/>
          </a:xfrm>
          <a:prstGeom prst="rect">
            <a:avLst/>
          </a:prstGeom>
          <a:noFill/>
          <a:ln w="9360">
            <a:solidFill>
              <a:srgbClr val="d2c8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961400" y="6265800"/>
            <a:ext cx="865080" cy="307080"/>
          </a:xfrm>
          <a:prstGeom prst="rect">
            <a:avLst/>
          </a:prstGeom>
          <a:noFill/>
          <a:ln w="9360">
            <a:solidFill>
              <a:srgbClr val="d2c8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0920" y="70920"/>
            <a:ext cx="831708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дварительные данные по исполнению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бюджета Проекта в 2006 году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"/>
          <p:cNvGrpSpPr/>
          <p:nvPr/>
        </p:nvGrpSpPr>
        <p:grpSpPr>
          <a:xfrm>
            <a:off x="755640" y="836640"/>
            <a:ext cx="8209080" cy="5681520"/>
            <a:chOff x="755640" y="836640"/>
            <a:chExt cx="8209080" cy="5681520"/>
          </a:xfrm>
        </p:grpSpPr>
        <p:pic>
          <p:nvPicPr>
            <p:cNvPr id="372" name="" descr=""/>
            <p:cNvPicPr/>
            <p:nvPr/>
          </p:nvPicPr>
          <p:blipFill>
            <a:blip r:embed="rId1"/>
            <a:stretch/>
          </p:blipFill>
          <p:spPr>
            <a:xfrm>
              <a:off x="6877080" y="3860640"/>
              <a:ext cx="1954080" cy="244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" descr=""/>
            <p:cNvPicPr/>
            <p:nvPr/>
          </p:nvPicPr>
          <p:blipFill>
            <a:blip r:embed="rId2"/>
            <a:stretch/>
          </p:blipFill>
          <p:spPr>
            <a:xfrm>
              <a:off x="1403280" y="4005360"/>
              <a:ext cx="3351240" cy="251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" descr=""/>
            <p:cNvPicPr/>
            <p:nvPr/>
          </p:nvPicPr>
          <p:blipFill>
            <a:blip r:embed="rId3"/>
            <a:stretch/>
          </p:blipFill>
          <p:spPr>
            <a:xfrm>
              <a:off x="3492360" y="981000"/>
              <a:ext cx="301968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755640" y="836640"/>
              <a:ext cx="8209080" cy="5616720"/>
            </a:xfrm>
            <a:prstGeom prst="rect">
              <a:avLst/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1042920" y="2637000"/>
            <a:ext cx="7129440" cy="1655640"/>
          </a:xfrm>
          <a:prstGeom prst="rect">
            <a:avLst/>
          </a:prstGeom>
          <a:solidFill>
            <a:srgbClr val="8fb4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ОРИТ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ОБЕСПЕЧЕНИЕ НАСЕЛ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СОКОТЕХНОЛОГИЧ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ДИЦИНСКОЙ ПОМОЩЬЮ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79280" y="1413000"/>
            <a:ext cx="8785440" cy="4680000"/>
          </a:xfrm>
          <a:prstGeom prst="rect">
            <a:avLst/>
          </a:prstGeom>
          <a:solidFill>
            <a:srgbClr val="d2c8fe">
              <a:alpha val="70000"/>
            </a:srgbClr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356000" y="4078440"/>
            <a:ext cx="1584360" cy="863280"/>
          </a:xfrm>
          <a:prstGeom prst="rect">
            <a:avLst/>
          </a:prstGeom>
          <a:solidFill>
            <a:srgbClr val="7575ff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356000" y="5157720"/>
            <a:ext cx="1584360" cy="863640"/>
          </a:xfrm>
          <a:prstGeom prst="rect">
            <a:avLst/>
          </a:prstGeom>
          <a:solidFill>
            <a:srgbClr val="7575ff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7921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беспечение населения высокотехнологичной медицинской помощью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356000" y="2997360"/>
            <a:ext cx="1584360" cy="863280"/>
          </a:xfrm>
          <a:prstGeom prst="rect">
            <a:avLst/>
          </a:prstGeom>
          <a:solidFill>
            <a:srgbClr val="7575ff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498920" y="3141720"/>
            <a:ext cx="1274760" cy="504720"/>
          </a:xfrm>
          <a:prstGeom prst="rect">
            <a:avLst/>
          </a:prstGeom>
          <a:solidFill>
            <a:srgbClr val="00cc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849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546440" y="4268880"/>
            <a:ext cx="1274760" cy="504720"/>
          </a:xfrm>
          <a:prstGeom prst="rect">
            <a:avLst/>
          </a:prstGeom>
          <a:solidFill>
            <a:srgbClr val="00cc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81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525920" y="5327640"/>
            <a:ext cx="1274760" cy="504720"/>
          </a:xfrm>
          <a:prstGeom prst="rect">
            <a:avLst/>
          </a:prstGeom>
          <a:solidFill>
            <a:srgbClr val="00cc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8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55640" y="4078440"/>
            <a:ext cx="2232000" cy="863280"/>
          </a:xfrm>
          <a:prstGeom prst="rect">
            <a:avLst/>
          </a:prstGeom>
          <a:solidFill>
            <a:srgbClr val="7575ff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РАМ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55640" y="5157720"/>
            <a:ext cx="2232000" cy="863640"/>
          </a:xfrm>
          <a:prstGeom prst="rect">
            <a:avLst/>
          </a:prstGeom>
          <a:solidFill>
            <a:srgbClr val="7575ff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ФМБА России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55640" y="2997360"/>
            <a:ext cx="2232000" cy="863280"/>
          </a:xfrm>
          <a:prstGeom prst="rect">
            <a:avLst/>
          </a:prstGeom>
          <a:solidFill>
            <a:srgbClr val="7575ff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осздра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179280" y="1498680"/>
          <a:ext cx="8640720" cy="1630440"/>
        </p:xfrm>
        <a:graphic>
          <a:graphicData uri="http://schemas.openxmlformats.org/drawingml/2006/table">
            <a:tbl>
              <a:tblPr/>
              <a:tblGrid>
                <a:gridCol w="3384720"/>
                <a:gridCol w="3240000"/>
                <a:gridCol w="2016000"/>
              </a:tblGrid>
              <a:tr h="163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Главные распорядители средств федерального бюдж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Число пролеченных больных за 2006 год (чел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ВСЕГО – 128 000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лан на 1 кварта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007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ВСЕГО: 30270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9" name=""/>
          <p:cNvSpPr/>
          <p:nvPr/>
        </p:nvSpPr>
        <p:spPr>
          <a:xfrm>
            <a:off x="7091280" y="4078440"/>
            <a:ext cx="1584360" cy="863280"/>
          </a:xfrm>
          <a:prstGeom prst="rect">
            <a:avLst/>
          </a:prstGeom>
          <a:solidFill>
            <a:srgbClr val="7575ff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091280" y="5157720"/>
            <a:ext cx="1584360" cy="863640"/>
          </a:xfrm>
          <a:prstGeom prst="rect">
            <a:avLst/>
          </a:prstGeom>
          <a:solidFill>
            <a:srgbClr val="7575ff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091280" y="2997360"/>
            <a:ext cx="1584360" cy="863280"/>
          </a:xfrm>
          <a:prstGeom prst="rect">
            <a:avLst/>
          </a:prstGeom>
          <a:solidFill>
            <a:srgbClr val="7575ff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234200" y="3141720"/>
            <a:ext cx="1274760" cy="504720"/>
          </a:xfrm>
          <a:prstGeom prst="rect">
            <a:avLst/>
          </a:prstGeom>
          <a:solidFill>
            <a:srgbClr val="00cc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98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281720" y="4268880"/>
            <a:ext cx="1274760" cy="504720"/>
          </a:xfrm>
          <a:prstGeom prst="rect">
            <a:avLst/>
          </a:prstGeom>
          <a:solidFill>
            <a:srgbClr val="00cc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91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261200" y="5327640"/>
            <a:ext cx="1274760" cy="504720"/>
          </a:xfrm>
          <a:prstGeom prst="rect">
            <a:avLst/>
          </a:prstGeom>
          <a:solidFill>
            <a:srgbClr val="00cc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"/>
          <p:cNvGrpSpPr/>
          <p:nvPr/>
        </p:nvGrpSpPr>
        <p:grpSpPr>
          <a:xfrm>
            <a:off x="3708360" y="1125360"/>
            <a:ext cx="5256360" cy="4175280"/>
            <a:chOff x="3708360" y="1125360"/>
            <a:chExt cx="5256360" cy="4175280"/>
          </a:xfrm>
        </p:grpSpPr>
        <p:pic>
          <p:nvPicPr>
            <p:cNvPr id="396" name="" descr=""/>
            <p:cNvPicPr/>
            <p:nvPr/>
          </p:nvPicPr>
          <p:blipFill>
            <a:blip r:embed="rId1"/>
            <a:stretch/>
          </p:blipFill>
          <p:spPr>
            <a:xfrm>
              <a:off x="3956040" y="1436760"/>
              <a:ext cx="4863960" cy="36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3708360" y="1125360"/>
              <a:ext cx="5256360" cy="4175280"/>
            </a:xfrm>
            <a:prstGeom prst="rect">
              <a:avLst/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0920" y="70920"/>
            <a:ext cx="810108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троительство федеральных центров высоких медицинских технологий 2006 г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04880" y="1748880"/>
            <a:ext cx="84391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страханская обла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федеральный центр сердечно-сосудистой хирург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снодарский кра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федеральный центр травматологии, ортопедии и эндопротезир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сноярский кра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федеральный центр сердечно-сосудистой хирург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нзенская обла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федеральный центр сердечно-сосудистой хирург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юменская обла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федеральный центр нейрохирург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абаровский кра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федеральный центр сердечно-сосудистой хирург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увашская Республ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федеральный центр травматологии, ортопедии и эндопротезир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"/>
          <p:cNvGrpSpPr/>
          <p:nvPr/>
        </p:nvGrpSpPr>
        <p:grpSpPr>
          <a:xfrm>
            <a:off x="3708360" y="1125360"/>
            <a:ext cx="5256360" cy="4175280"/>
            <a:chOff x="3708360" y="1125360"/>
            <a:chExt cx="5256360" cy="4175280"/>
          </a:xfrm>
        </p:grpSpPr>
        <p:pic>
          <p:nvPicPr>
            <p:cNvPr id="401" name="" descr=""/>
            <p:cNvPicPr/>
            <p:nvPr/>
          </p:nvPicPr>
          <p:blipFill>
            <a:blip r:embed="rId1"/>
            <a:stretch/>
          </p:blipFill>
          <p:spPr>
            <a:xfrm>
              <a:off x="3956040" y="1436760"/>
              <a:ext cx="4863960" cy="36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3708360" y="1125360"/>
              <a:ext cx="5256360" cy="4175280"/>
            </a:xfrm>
            <a:prstGeom prst="rect">
              <a:avLst/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0920" y="70920"/>
            <a:ext cx="810108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троительство федеральных центров высоких медицинских технологий 2007 г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04880" y="1894680"/>
            <a:ext cx="8439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тайский кра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федеральный центр травматологии, ортопедии и эндопротезир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орский кра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федеральный центр травматологии, ортопедии и эндопротезир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лининградская обла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федеральный центр сердечно-сосудистой хирург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восибирская обла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федеральный центр нейрохирург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мский кра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федеральный центр сердечно-сосудистой хирург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моленская обла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федеральный центр сердечно-сосудистой хирург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лябинская обла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федеральный центр сердечно-сосудистой хирург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"/>
          <p:cNvGrpSpPr/>
          <p:nvPr/>
        </p:nvGrpSpPr>
        <p:grpSpPr>
          <a:xfrm>
            <a:off x="395280" y="765000"/>
            <a:ext cx="8209080" cy="5832720"/>
            <a:chOff x="395280" y="765000"/>
            <a:chExt cx="8209080" cy="5832720"/>
          </a:xfrm>
        </p:grpSpPr>
        <p:pic>
          <p:nvPicPr>
            <p:cNvPr id="406" name="" descr=""/>
            <p:cNvPicPr/>
            <p:nvPr/>
          </p:nvPicPr>
          <p:blipFill>
            <a:blip r:embed="rId1"/>
            <a:stretch/>
          </p:blipFill>
          <p:spPr>
            <a:xfrm>
              <a:off x="1258920" y="830160"/>
              <a:ext cx="6850080" cy="576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395280" y="765000"/>
              <a:ext cx="8209080" cy="5832720"/>
            </a:xfrm>
            <a:prstGeom prst="rect">
              <a:avLst/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1042920" y="2997360"/>
            <a:ext cx="7129440" cy="1008000"/>
          </a:xfrm>
          <a:prstGeom prst="rect">
            <a:avLst/>
          </a:prstGeom>
          <a:solidFill>
            <a:srgbClr val="8fb4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ализация информацион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держки и управления проек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51912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одготовлены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Руководства </a:t>
            </a:r>
            <a:r>
              <a:rPr b="0" lang="en-US" sz="2800" spc="-1" strike="noStrike">
                <a:solidFill>
                  <a:srgbClr val="fe0802"/>
                </a:solidFill>
                <a:latin typeface="Arial"/>
              </a:rPr>
              <a:t>для медицинских работников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первичного звена здравоохранен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Информационные брошюры о приоритетном национальном проекте «Здоровье» для медицинских работников и студентов, преподавателей медицинских вуз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Брошюры </a:t>
            </a:r>
            <a:r>
              <a:rPr b="0" lang="en-US" sz="2800" spc="-1" strike="noStrike">
                <a:solidFill>
                  <a:srgbClr val="fe0802"/>
                </a:solidFill>
                <a:latin typeface="Arial"/>
              </a:rPr>
              <a:t>для населения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по медико-санитарному просвещению и пропаганде здорового образа жизн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189000"/>
            <a:ext cx="9144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79640" y="115920"/>
            <a:ext cx="59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нформационная поддержка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44360" y="45720"/>
            <a:ext cx="817272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нформационные брошюры для населени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748720" y="333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-108000" y="4869000"/>
            <a:ext cx="941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рошюры  «Кодексы здоровья и долголетия» (1 956 300 экз.) доставлены в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вердловскую (311 300 экз.), Московскую (501 500 экз.), Архангельскую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101 500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кз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Калининградскую (60 500 экз.)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енинградскую области (120 000 экз.),  Краснодарский край (381 500 экз.)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Республику Татарстан (280 000 экз.), Саратовскую область (200 000 экз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7619760" cy="5391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285840" y="399960"/>
            <a:ext cx="8572320" cy="605808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1280" y="-360"/>
            <a:ext cx="8172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нформационные брошюры для медицинских работников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79280" y="5805360"/>
            <a:ext cx="8785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настоящее время 769 100 брошюр доставлены во все субъекты Российской Федер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321080" cy="3117960"/>
          </a:xfrm>
          <a:prstGeom prst="rect">
            <a:avLst/>
          </a:prstGeom>
          <a:ln w="9360">
            <a:solidFill>
              <a:srgbClr val="3333cc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20" name=""/>
          <p:cNvSpPr/>
          <p:nvPr/>
        </p:nvSpPr>
        <p:spPr>
          <a:xfrm>
            <a:off x="5003640" y="3681000"/>
            <a:ext cx="39610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сероссийский медицинский портал </a:t>
            </a:r>
            <a:r>
              <a:rPr b="1" lang="ru-RU" sz="16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www</a:t>
            </a:r>
            <a:r>
              <a:rPr b="1" lang="ru-RU" sz="1600" spc="-1" strike="noStrike">
                <a:solidFill>
                  <a:srgbClr val="3333cc"/>
                </a:solidFill>
                <a:latin typeface="Arial"/>
              </a:rPr>
              <a:t>.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bibliomed</a:t>
            </a:r>
            <a:r>
              <a:rPr b="1" lang="ru-RU" sz="16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ru</a:t>
            </a:r>
            <a:r>
              <a:rPr b="1" lang="ru-RU" sz="1600" spc="-1" strike="noStrike">
                <a:solidFill>
                  <a:srgbClr val="3333cc"/>
                </a:solidFill>
                <a:latin typeface="Arial"/>
              </a:rPr>
              <a:t>)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етило свыше 25 000 врачей, а также  свыше полумиллиона экземпляров медицинской практической и методической литературы направлены в регио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10108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нформационная поддержка проекта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1010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тоги реализации мероприятий Проекта в 2006 года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23640" y="1485720"/>
            <a:ext cx="8569080" cy="4174920"/>
          </a:xfrm>
          <a:prstGeom prst="rect">
            <a:avLst/>
          </a:prstGeom>
          <a:noFill/>
          <a:ln w="63360">
            <a:solidFill>
              <a:srgbClr val="d2c8fe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повышение качества, доступности и бесплатности медицинской помощи населению (на 30% уменьшилась платность)  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увеличение заработной платы медицинских работников (средний рост заработной платы в сфере здравоохранения в 2006 году составил 37,9%)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укрепление материально-технической базы учреждений здравоохранения (обновлена каждая третья автомашина скорой медицинской помощи, поставлено 22652 ед.оборудования в 5512 ЛПУ )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повышение квалификации медицинских работников (обучено 12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80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5 врача)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179280" y="4292640"/>
            <a:ext cx="8713800" cy="1727280"/>
            <a:chOff x="179280" y="4292640"/>
            <a:chExt cx="8713800" cy="1727280"/>
          </a:xfrm>
        </p:grpSpPr>
        <p:sp>
          <p:nvSpPr>
            <p:cNvPr id="94" name=""/>
            <p:cNvSpPr/>
            <p:nvPr/>
          </p:nvSpPr>
          <p:spPr>
            <a:xfrm>
              <a:off x="179280" y="4292640"/>
              <a:ext cx="8713800" cy="1727280"/>
            </a:xfrm>
            <a:prstGeom prst="rect">
              <a:avLst/>
            </a:prstGeom>
            <a:noFill/>
            <a:ln w="255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ФФОМ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0920" y="4680000"/>
              <a:ext cx="6265800" cy="580680"/>
            </a:xfrm>
            <a:prstGeom prst="rect">
              <a:avLst/>
            </a:prstGeom>
            <a:noFill/>
            <a:ln w="9360">
              <a:solidFill>
                <a:srgbClr val="d2c8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роведение дополнительной диспансеризации работников бюджетной сферы в возрасте 35-55 л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04000" y="4680000"/>
              <a:ext cx="873000" cy="580680"/>
            </a:xfrm>
            <a:prstGeom prst="rect">
              <a:avLst/>
            </a:prstGeom>
            <a:noFill/>
            <a:ln w="9360">
              <a:solidFill>
                <a:srgbClr val="d2c8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,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975440" y="4680000"/>
              <a:ext cx="865440" cy="580680"/>
            </a:xfrm>
            <a:prstGeom prst="rect">
              <a:avLst/>
            </a:prstGeom>
            <a:noFill/>
            <a:ln w="9360">
              <a:solidFill>
                <a:srgbClr val="d2c8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,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50920" y="5372280"/>
              <a:ext cx="6265800" cy="580680"/>
            </a:xfrm>
            <a:prstGeom prst="rect">
              <a:avLst/>
            </a:prstGeom>
            <a:noFill/>
            <a:ln w="9360">
              <a:solidFill>
                <a:srgbClr val="d2c8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Дополнительная оплата первичной медико-санитарной помощи, оказываемой неработающим пенсионера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804000" y="5372280"/>
              <a:ext cx="873000" cy="580680"/>
            </a:xfrm>
            <a:prstGeom prst="rect">
              <a:avLst/>
            </a:prstGeom>
            <a:noFill/>
            <a:ln w="9360">
              <a:solidFill>
                <a:srgbClr val="d2c8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6,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975440" y="5372280"/>
              <a:ext cx="865440" cy="580680"/>
            </a:xfrm>
            <a:prstGeom prst="rect">
              <a:avLst/>
            </a:prstGeom>
            <a:noFill/>
            <a:ln w="9360">
              <a:solidFill>
                <a:srgbClr val="d2c8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,3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79280" y="1414440"/>
            <a:ext cx="8713800" cy="2877840"/>
            <a:chOff x="179280" y="1414440"/>
            <a:chExt cx="8713800" cy="2877840"/>
          </a:xfrm>
        </p:grpSpPr>
        <p:sp>
          <p:nvSpPr>
            <p:cNvPr id="102" name=""/>
            <p:cNvSpPr/>
            <p:nvPr/>
          </p:nvSpPr>
          <p:spPr>
            <a:xfrm>
              <a:off x="250920" y="1846080"/>
              <a:ext cx="6265800" cy="580680"/>
            </a:xfrm>
            <a:prstGeom prst="rect">
              <a:avLst/>
            </a:prstGeom>
            <a:noFill/>
            <a:ln w="9360">
              <a:solidFill>
                <a:srgbClr val="d2c8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Оплата медицинской помощи, оказанной женщинам во время беременности и родо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04000" y="1846080"/>
              <a:ext cx="873000" cy="580680"/>
            </a:xfrm>
            <a:prstGeom prst="rect">
              <a:avLst/>
            </a:prstGeom>
            <a:noFill/>
            <a:ln w="9360">
              <a:solidFill>
                <a:srgbClr val="d2c8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,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975440" y="1846080"/>
              <a:ext cx="865440" cy="337320"/>
            </a:xfrm>
            <a:prstGeom prst="rect">
              <a:avLst/>
            </a:prstGeom>
            <a:noFill/>
            <a:ln w="9360">
              <a:solidFill>
                <a:srgbClr val="d2c8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50920" y="2593800"/>
              <a:ext cx="6265800" cy="824040"/>
            </a:xfrm>
            <a:prstGeom prst="rect">
              <a:avLst/>
            </a:prstGeom>
            <a:noFill/>
            <a:ln w="9360">
              <a:solidFill>
                <a:srgbClr val="d2c8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роведение дополнительных медицинских осмотров работников, занятых на работах с вредными и (или) опасными производственными факторам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804000" y="2593800"/>
              <a:ext cx="873000" cy="824040"/>
            </a:xfrm>
            <a:prstGeom prst="rect">
              <a:avLst/>
            </a:prstGeom>
            <a:noFill/>
            <a:ln w="9360">
              <a:solidFill>
                <a:srgbClr val="d2c8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,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975440" y="2593800"/>
              <a:ext cx="865440" cy="824040"/>
            </a:xfrm>
            <a:prstGeom prst="rect">
              <a:avLst/>
            </a:prstGeom>
            <a:noFill/>
            <a:ln w="9360">
              <a:solidFill>
                <a:srgbClr val="d2c8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,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50920" y="3558960"/>
              <a:ext cx="6265800" cy="733320"/>
            </a:xfrm>
            <a:prstGeom prst="rect">
              <a:avLst/>
            </a:prstGeom>
            <a:noFill/>
            <a:ln w="9360">
              <a:solidFill>
                <a:srgbClr val="d2c8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Дополнительная оплата первичной медико-санитарной помощи, оказываемой работающим гражданам, и дополнительная  диспансеризация работающих гражда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04000" y="3558960"/>
              <a:ext cx="873000" cy="580680"/>
            </a:xfrm>
            <a:prstGeom prst="rect">
              <a:avLst/>
            </a:prstGeom>
            <a:noFill/>
            <a:ln w="9360">
              <a:solidFill>
                <a:srgbClr val="d2c8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7,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975440" y="3558960"/>
              <a:ext cx="865440" cy="580680"/>
            </a:xfrm>
            <a:prstGeom prst="rect">
              <a:avLst/>
            </a:prstGeom>
            <a:noFill/>
            <a:ln w="9360">
              <a:solidFill>
                <a:srgbClr val="d2c8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,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79280" y="1414440"/>
              <a:ext cx="8713800" cy="2806560"/>
            </a:xfrm>
            <a:prstGeom prst="rect">
              <a:avLst/>
            </a:prstGeom>
            <a:noFill/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ФСС Росс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6644880" y="822240"/>
            <a:ext cx="118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лрд. ру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875000" y="831960"/>
            <a:ext cx="118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а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лрд. ру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9280" y="6122880"/>
            <a:ext cx="6351840" cy="400320"/>
          </a:xfrm>
          <a:prstGeom prst="rect">
            <a:avLst/>
          </a:prstGeom>
          <a:solidFill>
            <a:srgbClr val="d1e8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ИТ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19840" y="6124680"/>
            <a:ext cx="863640" cy="399960"/>
          </a:xfrm>
          <a:prstGeom prst="rect">
            <a:avLst/>
          </a:prstGeom>
          <a:solidFill>
            <a:srgbClr val="d1e8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97,3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970760" y="6122880"/>
            <a:ext cx="863640" cy="400320"/>
          </a:xfrm>
          <a:prstGeom prst="rect">
            <a:avLst/>
          </a:prstGeom>
          <a:solidFill>
            <a:srgbClr val="d1e8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78,98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0920" y="70920"/>
            <a:ext cx="831708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дварительные данные по исполнению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бюджета Проекта в 2006 году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250560" y="1052640"/>
            <a:ext cx="8569080" cy="5184720"/>
          </a:xfrm>
          <a:prstGeom prst="rect">
            <a:avLst/>
          </a:prstGeom>
          <a:noFill/>
          <a:ln w="76320">
            <a:solidFill>
              <a:srgbClr val="d2c8fe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снижение показателей смертности на 120 000 человек за счет повышения доступности и качества медицинских услуг населению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снижение времени ожидания диагностических обследований (с 10 до 7 дней) и скорой медицинской помощи (с 35 до 25 минут)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расширение перечня профилактических мероприятий, в том числе в рамках национального календаря прививок 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осуществление мониторинга здоровья работающего населения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тиражирование ВМП для медицинских учреждений субъектов Российской Федерации и муниципальных образований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4920" y="-27000"/>
            <a:ext cx="81010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тоги реализации мероприятий Проекта в 2006 года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34920" y="71280"/>
            <a:ext cx="785664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оритетный национальный проект в сфере здравоохранения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007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250920" y="907920"/>
          <a:ext cx="8642160" cy="5597640"/>
        </p:xfrm>
        <a:graphic>
          <a:graphicData uri="http://schemas.openxmlformats.org/drawingml/2006/table">
            <a:tbl>
              <a:tblPr/>
              <a:tblGrid>
                <a:gridCol w="6192720"/>
                <a:gridCol w="1224000"/>
                <a:gridCol w="1225440"/>
              </a:tblGrid>
              <a:tr h="448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меропри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тие первичной медико-санитарной помощ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c8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c8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c8fe"/>
                    </a:solidFill>
                  </a:tcPr>
                </a:tc>
              </a:tr>
              <a:tr h="450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готовка и переподготовка врач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уществление денежных выплат участковым врачам и медсестра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уществление денежных выплат работникам ФАП и скорой медицинской помощ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ащение диагностическим оборудовани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ащение автомобилям скорой медицинской помощ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следование населения на ВИЧ и гепатиты и лечение больных ВИЧ-инфекци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дение дополнительной иммун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следование новорожденных детей на врожденные заболе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дение диспансеризации по программам работающего насе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34920" y="71280"/>
            <a:ext cx="785664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оритетный национальный проект в сфере здравоохранения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007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250920" y="907920"/>
          <a:ext cx="8642160" cy="5400720"/>
        </p:xfrm>
        <a:graphic>
          <a:graphicData uri="http://schemas.openxmlformats.org/drawingml/2006/table">
            <a:tbl>
              <a:tblPr/>
              <a:tblGrid>
                <a:gridCol w="6192720"/>
                <a:gridCol w="1224000"/>
                <a:gridCol w="1225440"/>
              </a:tblGrid>
              <a:tr h="82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меропри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ение населения высокотехнологичной медицинской помощь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c8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c8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c8fe"/>
                    </a:solidFill>
                  </a:tcPr>
                </a:tc>
              </a:tr>
              <a:tr h="105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оительство новых центров высоких медицинских технолог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азание высокотехнологичной медицинской помощ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ционная поддержка и управление проект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c8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c8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c8fe"/>
                    </a:solidFill>
                  </a:tcPr>
                </a:tc>
              </a:tr>
              <a:tr h="82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 по федеральному бюджет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34920" y="71280"/>
            <a:ext cx="785664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оритетный национальный проект в сфере здравоохранения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007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250920" y="907920"/>
          <a:ext cx="8642160" cy="5575320"/>
        </p:xfrm>
        <a:graphic>
          <a:graphicData uri="http://schemas.openxmlformats.org/drawingml/2006/table">
            <a:tbl>
              <a:tblPr/>
              <a:tblGrid>
                <a:gridCol w="6192720"/>
                <a:gridCol w="1224000"/>
                <a:gridCol w="1225440"/>
              </a:tblGrid>
              <a:tr h="54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меропри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ды бюджетов ФСС и ФОМ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c8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c8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c8fe"/>
                    </a:solidFill>
                  </a:tcPr>
                </a:tc>
              </a:tr>
              <a:tr h="549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лата медицинской помощи по родовому сертифика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c8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c8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c8fe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дение диспансеризации граждан, работающих в отраслях с вредными и опасными производственными условия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c8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c8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c8fe"/>
                    </a:solidFill>
                  </a:tcPr>
                </a:tc>
              </a:tr>
              <a:tr h="704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олнительная оплата первичной медико-санитарной помощ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c8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c8f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c8fe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ющим граждана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аботающим пенсионера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дение «пилотного» проекта по повышению качества услуг в здравоохранен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 по национальному проекту «Здоровье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1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324000" y="2565360"/>
            <a:ext cx="8496000" cy="1013040"/>
          </a:xfrm>
          <a:prstGeom prst="rect">
            <a:avLst/>
          </a:prstGeom>
          <a:noFill/>
          <a:ln w="190440">
            <a:solidFill>
              <a:srgbClr val="d2c8fe"/>
            </a:solidFill>
            <a:miter/>
          </a:ln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обенности реализации приоритетного национального проекта «Здоровье» в 2007 год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28440" y="87480"/>
            <a:ext cx="81010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Осуществление денежных выплат медицинским работникам, оказывающим первичную медико-санитарную помощ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95280" y="1413000"/>
            <a:ext cx="4105440" cy="1655640"/>
          </a:xfrm>
          <a:prstGeom prst="rect">
            <a:avLst/>
          </a:prstGeom>
          <a:solidFill>
            <a:srgbClr val="d2c8fe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В соответствии со ст.139 ТК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енежные выплат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читываются при исчислен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редней заработной платы дл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сех случаев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едусмотренных ТК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643280" y="1413000"/>
            <a:ext cx="4249800" cy="1655640"/>
          </a:xfrm>
          <a:prstGeom prst="rect">
            <a:avLst/>
          </a:prstGeom>
          <a:solidFill>
            <a:srgbClr val="d2c8fe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В случае ненадлежаще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сполнения работник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олжностных обязанност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ботодатель вправ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иостановить денежные выпла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срок не более 3-х месяце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95280" y="3211560"/>
            <a:ext cx="4105440" cy="3025800"/>
          </a:xfrm>
          <a:prstGeom prst="rect">
            <a:avLst/>
          </a:prstGeom>
          <a:solidFill>
            <a:srgbClr val="d2c8fe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Дополнительное соглаш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ключае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вновь принятыми на работ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первого числа каждого месяц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работающими по срочны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рудовым договора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С инвалидами 3 группы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дителями детей-инвали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Работающими по сокращен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должительности рабоче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реме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643280" y="3213000"/>
            <a:ext cx="4249800" cy="3025800"/>
          </a:xfrm>
          <a:prstGeom prst="rect">
            <a:avLst/>
          </a:prstGeom>
          <a:solidFill>
            <a:srgbClr val="d2c8fe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Не рекомендуется заключа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ополнительное соглаш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 работниками, занятыми на условия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овместительства. Если имеет мест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фактическое привлечение эт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ботников, занятых на условия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овместительства то опла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сходов осуществляе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а счет средств работодате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10108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глубленные медицинские осмотры работников, занятых на работах с вредными и (или) опасными производственными факторам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067280" y="981000"/>
            <a:ext cx="2232000" cy="863640"/>
          </a:xfrm>
          <a:prstGeom prst="rect">
            <a:avLst/>
          </a:prstGeom>
          <a:solidFill>
            <a:srgbClr val="7575ff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ФС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067280" y="2205000"/>
            <a:ext cx="2232000" cy="863640"/>
          </a:xfrm>
          <a:prstGeom prst="rect">
            <a:avLst/>
          </a:prstGeom>
          <a:solidFill>
            <a:srgbClr val="7575ff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егиональные отделения фонда Ф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148360" y="184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067280" y="5157720"/>
            <a:ext cx="2232000" cy="863640"/>
          </a:xfrm>
          <a:prstGeom prst="rect">
            <a:avLst/>
          </a:prstGeom>
          <a:solidFill>
            <a:srgbClr val="7575ff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Медицинские учре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067280" y="3357720"/>
            <a:ext cx="2232000" cy="863280"/>
          </a:xfrm>
          <a:prstGeom prst="rect">
            <a:avLst/>
          </a:prstGeom>
          <a:solidFill>
            <a:srgbClr val="7575ff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Страховател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3645000"/>
            <a:ext cx="2195640" cy="1079280"/>
          </a:xfrm>
          <a:prstGeom prst="rect">
            <a:avLst/>
          </a:prstGeom>
          <a:solidFill>
            <a:srgbClr val="7575ff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Территориальные органы Роспотребнадзо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14836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282920" y="422100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195640" y="4149720"/>
            <a:ext cx="1871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588000" y="3284640"/>
            <a:ext cx="252108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бъем УМО в рамках    национального проек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) не менее 2 узких специалис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б) не менее 2 дополнительных инструментальных методов обслед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) не более 580 руб. на одного работн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348000" y="2565360"/>
            <a:ext cx="719280" cy="1511280"/>
          </a:xfrm>
          <a:custGeom>
            <a:avLst/>
            <a:gdLst>
              <a:gd name="textAreaLeft" fmla="*/ 96120 w 719280"/>
              <a:gd name="textAreaRight" fmla="*/ 623160 w 719280"/>
              <a:gd name="textAreaTop" fmla="*/ 274680 h 1511280"/>
              <a:gd name="textAreaBottom" fmla="*/ 104436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55" stAng="-5400000" swAng="-5400000"/>
                <a:lnTo>
                  <a:pt x="0" y="10997"/>
                </a:lnTo>
                <a:arcTo wR="21600" hR="7855" stAng="10800000" swAng="-2988806"/>
                <a:lnTo>
                  <a:pt x="15258" y="21254"/>
                </a:lnTo>
                <a:lnTo>
                  <a:pt x="21600" y="17280"/>
                </a:lnTo>
                <a:lnTo>
                  <a:pt x="15258" y="12614"/>
                </a:lnTo>
                <a:lnTo>
                  <a:pt x="15258" y="15363"/>
                </a:lnTo>
                <a:arcTo wR="21600" hR="7855" stAng="7811194" swAng="2734084"/>
                <a:lnTo>
                  <a:pt x="436" y="9425"/>
                </a:lnTo>
                <a:arcTo wR="21600" hR="7855" stAng="-10545278" swAng="5145278"/>
                <a:close/>
              </a:path>
              <a:path fill="darkenLess" w="21600" h="21600">
                <a:moveTo>
                  <a:pt x="21600" y="0"/>
                </a:moveTo>
                <a:arcTo wR="21600" hR="7855" stAng="-5400000" swAng="-5400000"/>
                <a:lnTo>
                  <a:pt x="0" y="7855"/>
                </a:lnTo>
                <a:arcTo wR="21600" hR="7855" stAng="10800000" swAng="-254722"/>
                <a:lnTo>
                  <a:pt x="436" y="9425"/>
                </a:lnTo>
                <a:arcTo wR="21600" hR="7855" stAng="-10545278" swAng="5145278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284720" y="4365720"/>
            <a:ext cx="2016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оговор на период медицинского осмот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124000" y="4149720"/>
            <a:ext cx="2016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огласование списка работни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403280" y="2924280"/>
            <a:ext cx="201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Финансирование недостающих 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300720" y="3500280"/>
            <a:ext cx="216000" cy="2592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720"/>
              <a:gd name="textAreaBottom" fmla="*/ 2525400 h 259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-360" y="70920"/>
            <a:ext cx="810108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ополнительная диспансеризация работников бюджетной сферы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250920" y="1268280"/>
          <a:ext cx="8713800" cy="5351400"/>
        </p:xfrm>
        <a:graphic>
          <a:graphicData uri="http://schemas.openxmlformats.org/drawingml/2006/table">
            <a:tbl>
              <a:tblPr/>
              <a:tblGrid>
                <a:gridCol w="4513320"/>
                <a:gridCol w="1752480"/>
                <a:gridCol w="2448000"/>
              </a:tblGrid>
              <a:tr h="82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.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Объем финанси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 </a:t>
                      </a: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млрд ру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 млрд. ру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.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Нормативы финансовых затрат на 1 случай дополнительной диспансеризаци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00 ру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40 ру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Возраст, подлежащий дополнительной диспансер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5-55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все работники  бюджетных организаций не прошедших дополнительную диспансеризацию в 2006 год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Срок действия лабораторных и инструментальных исследований для зачета при дополнительной диспансеризации (кроме флюорографии и маммографии (УЗИ)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 месяце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 меся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"/>
          <p:cNvSpPr/>
          <p:nvPr/>
        </p:nvSpPr>
        <p:spPr>
          <a:xfrm>
            <a:off x="4933080" y="83664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2006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074720" y="83664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2007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10108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еречень диагностического оборудования, приобретаемого в 2007 году за счет средств федерального бюджета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24000" y="961560"/>
            <a:ext cx="8496000" cy="5373720"/>
          </a:xfrm>
          <a:prstGeom prst="rect">
            <a:avLst/>
          </a:prstGeom>
          <a:noFill/>
          <a:ln w="190440">
            <a:solidFill>
              <a:srgbClr val="d2c8fe"/>
            </a:solidFill>
            <a:miter/>
          </a:ln>
        </p:spPr>
        <p:txBody>
          <a:bodyPr anchor="ctr">
            <a:normAutofit/>
          </a:bodyPr>
          <a:p>
            <a:pPr marL="304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Для организации первичной медико-санитарной помощи в целях обеспечения муниципальных амбулаторно-поликлинических и стационарно-поликлинических учреждений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04920" indent="-304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ппараты для ультразвукового исследовани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4920" indent="-304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ппараты для электрокардиографи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4920" indent="-304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абораторное оборудовани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4920" indent="-304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зофагогастродуоденоскоп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4920" indent="-304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оноскоп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4920" indent="-30492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Цистроуретроскоп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4920" indent="-304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истероскоп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4920" indent="-304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ьпоскоп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4920" indent="-304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ппараты рентгеновские на 2 рабочих места,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 3 рабочих мест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4920" indent="-304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ппараты флюорографические стационарные и передвижны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4920" indent="-304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ппараты маммографические стационарные и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ередвиж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4920" indent="-30492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ашина проявочна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4920" indent="-30492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онитор фетальны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10108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еречень диагностического оборудования, приобретаемого в 2007 году за счет средств федерального бюджета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496000" cy="3789360"/>
          </a:xfrm>
          <a:prstGeom prst="rect">
            <a:avLst/>
          </a:prstGeom>
          <a:noFill/>
          <a:ln w="190440">
            <a:solidFill>
              <a:srgbClr val="d2c8fe"/>
            </a:solidFill>
            <a:miter/>
          </a:ln>
        </p:spPr>
        <p:txBody>
          <a:bodyPr anchor="ctr">
            <a:normAutofit/>
          </a:bodyPr>
          <a:p>
            <a:pPr marL="304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Для организации медицинской помощи женщинам в период беременности и послеродовый период в целях обеспечения женских консультаций, в том числе муниципальных амбулаторно-поликлинических и стационарно-поликлинических учреждени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04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04920" indent="-304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ппараты для ультразвукового исследовани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4920" indent="-304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ппараты для электрокардиографи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4920" indent="-304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абораторное оборудовани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4920" indent="-304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ьпоскоп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4920" indent="-304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истероскоп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4920" indent="-304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нитор фетальны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4920" indent="-304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ппарат маммографический с функцией стереотакси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2556000" y="3716280"/>
            <a:ext cx="3779640" cy="2881080"/>
            <a:chOff x="2556000" y="3716280"/>
            <a:chExt cx="3779640" cy="2881080"/>
          </a:xfrm>
        </p:grpSpPr>
        <p:pic>
          <p:nvPicPr>
            <p:cNvPr id="119" name="" descr=""/>
            <p:cNvPicPr/>
            <p:nvPr/>
          </p:nvPicPr>
          <p:blipFill>
            <a:blip r:embed="rId1"/>
            <a:stretch/>
          </p:blipFill>
          <p:spPr>
            <a:xfrm>
              <a:off x="2556000" y="3900240"/>
              <a:ext cx="3779640" cy="264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2556000" y="3716280"/>
              <a:ext cx="3779640" cy="2881080"/>
            </a:xfrm>
            <a:prstGeom prst="rect">
              <a:avLst/>
            </a:prstGeom>
            <a:solidFill>
              <a:srgbClr val="fffff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7020000" y="836640"/>
            <a:ext cx="2089080" cy="3024000"/>
            <a:chOff x="7020000" y="836640"/>
            <a:chExt cx="2089080" cy="3024000"/>
          </a:xfrm>
        </p:grpSpPr>
        <p:pic>
          <p:nvPicPr>
            <p:cNvPr id="122" name="" descr=""/>
            <p:cNvPicPr/>
            <p:nvPr/>
          </p:nvPicPr>
          <p:blipFill>
            <a:blip r:embed="rId2"/>
            <a:stretch/>
          </p:blipFill>
          <p:spPr>
            <a:xfrm>
              <a:off x="7086240" y="913320"/>
              <a:ext cx="1901160" cy="290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7020000" y="836640"/>
              <a:ext cx="2089080" cy="3024000"/>
            </a:xfrm>
            <a:prstGeom prst="rect">
              <a:avLst/>
            </a:prstGeom>
            <a:solidFill>
              <a:srgbClr val="ffff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0" y="836640"/>
            <a:ext cx="2570040" cy="4103640"/>
            <a:chOff x="0" y="836640"/>
            <a:chExt cx="2570040" cy="4103640"/>
          </a:xfrm>
        </p:grpSpPr>
        <p:pic>
          <p:nvPicPr>
            <p:cNvPr id="125" name="" descr=""/>
            <p:cNvPicPr/>
            <p:nvPr/>
          </p:nvPicPr>
          <p:blipFill>
            <a:blip r:embed="rId3"/>
            <a:stretch/>
          </p:blipFill>
          <p:spPr>
            <a:xfrm>
              <a:off x="288720" y="893520"/>
              <a:ext cx="2281320" cy="39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0" y="836640"/>
              <a:ext cx="2339640" cy="4103640"/>
            </a:xfrm>
            <a:prstGeom prst="rect">
              <a:avLst/>
            </a:prstGeom>
            <a:solidFill>
              <a:srgbClr val="fffff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114560" y="2708280"/>
            <a:ext cx="7129440" cy="1440000"/>
          </a:xfrm>
          <a:prstGeom prst="rect">
            <a:avLst/>
          </a:prstGeom>
          <a:solidFill>
            <a:srgbClr val="8fb4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ОРИТЕТ «РАЗВИТИЕ ПЕРВИЧ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ДИЦИНСКОЙ ПОМОЩ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42560" y="1079640"/>
            <a:ext cx="86058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Региональные отделения Фонда социального страхования Российской Федерации осуществляют оплату услуг исходя из расчета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250920" y="2173320"/>
          <a:ext cx="8424720" cy="3848040"/>
        </p:xfrm>
        <a:graphic>
          <a:graphicData uri="http://schemas.openxmlformats.org/drawingml/2006/table">
            <a:tbl>
              <a:tblPr/>
              <a:tblGrid>
                <a:gridCol w="2808360"/>
                <a:gridCol w="2808000"/>
                <a:gridCol w="2808360"/>
              </a:tblGrid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булаторно-поликлинические учреждения, (тыс.руб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ционарные учреждения, (тыс.руб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ские поликлиники, (тыс.руб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, (тыс.руб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4" name=""/>
          <p:cNvSpPr/>
          <p:nvPr/>
        </p:nvSpPr>
        <p:spPr>
          <a:xfrm>
            <a:off x="118080" y="65160"/>
            <a:ext cx="725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менения в реализации программы «Родовый сертификат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8080" y="87480"/>
            <a:ext cx="81010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Структура расходов средств, полученных учреждениями здравоохранения, оказывающими помощь женщинам в период беременности и родов, а также ребенку в течение 1 года жизни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6" name=""/>
          <p:cNvGraphicFramePr/>
          <p:nvPr/>
        </p:nvGraphicFramePr>
        <p:xfrm>
          <a:off x="250920" y="907920"/>
          <a:ext cx="8642160" cy="5726160"/>
        </p:xfrm>
        <a:graphic>
          <a:graphicData uri="http://schemas.openxmlformats.org/drawingml/2006/table">
            <a:tbl>
              <a:tblPr/>
              <a:tblGrid>
                <a:gridCol w="3843360"/>
                <a:gridCol w="1485720"/>
                <a:gridCol w="1800360"/>
                <a:gridCol w="1512720"/>
              </a:tblGrid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обору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ские поликли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булаторно-поликлинические учреж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ционарные учреж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17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лата тру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-4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-5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ение медикамент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-3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-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ащение медицинским оборудованием, инструментарием, мягким инвентарем и изделиями медицинского назна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-4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7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олнительное пит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4859280" y="1484280"/>
            <a:ext cx="4284720" cy="2232000"/>
          </a:xfrm>
          <a:prstGeom prst="downArrowCallout">
            <a:avLst>
              <a:gd name="adj1" fmla="val 47996"/>
              <a:gd name="adj2" fmla="val 47992"/>
              <a:gd name="adj3" fmla="val 16667"/>
              <a:gd name="adj4" fmla="val 6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1484280"/>
            <a:ext cx="4500720" cy="2232000"/>
          </a:xfrm>
          <a:prstGeom prst="downArrowCallout">
            <a:avLst>
              <a:gd name="adj1" fmla="val 50416"/>
              <a:gd name="adj2" fmla="val 50411"/>
              <a:gd name="adj3" fmla="val 16667"/>
              <a:gd name="adj4" fmla="val 6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71516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еализация государственного задания на ВМП в 2007 г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076720" y="1628640"/>
            <a:ext cx="395928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медицинских учреждения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убъе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оссийской Федерации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униципальных образов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987640" y="836640"/>
            <a:ext cx="3348000" cy="6174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7,5 млрд.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79280" y="1628640"/>
            <a:ext cx="4176720" cy="1266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федераль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пециализирован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едицинских учреждения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50920" y="3933720"/>
            <a:ext cx="4105080" cy="2376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ъем финансирования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5,5 млрд.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лановое число больных –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45 тыс. ч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788000" y="3933720"/>
            <a:ext cx="3924360" cy="2376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ъем финансирования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до 2,0 млрд.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лановое число больных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до 25 тыс. ч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10108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еализация ВМП в 2007 году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496000" cy="1079280"/>
          </a:xfrm>
          <a:prstGeom prst="rect">
            <a:avLst/>
          </a:prstGeom>
          <a:noFill/>
          <a:ln w="76320">
            <a:solidFill>
              <a:srgbClr val="d2c8fe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Впервые в реализации государственного задания на высокотехнологичную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медицинскую помощь за счет средств федерального бюджета будут принимать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участие медицинские учреждения субъектов РФ и муниципальных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образований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24000" y="2205000"/>
            <a:ext cx="5111640" cy="1728720"/>
          </a:xfrm>
          <a:prstGeom prst="rect">
            <a:avLst/>
          </a:prstGeom>
          <a:noFill/>
          <a:ln w="76320">
            <a:solidFill>
              <a:srgbClr val="d2c8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Для реализации государственного задания в 2007 году определены три наиболее востребованных и наукоемких профиля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ВМП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Сердечно-сосудистая хирург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травматология и ортопед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нейрохирург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580000" y="2421000"/>
            <a:ext cx="3240000" cy="1366920"/>
          </a:xfrm>
          <a:prstGeom prst="rect">
            <a:avLst/>
          </a:prstGeom>
          <a:noFill/>
          <a:ln w="76320">
            <a:solidFill>
              <a:srgbClr val="d2c8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0 субъектов РФ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не имеют возможности оказыва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ВМП в региональ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учреждениях здравоохран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24000" y="4076640"/>
            <a:ext cx="8496000" cy="1728720"/>
          </a:xfrm>
          <a:prstGeom prst="rect">
            <a:avLst/>
          </a:prstGeom>
          <a:noFill/>
          <a:ln w="76320">
            <a:solidFill>
              <a:srgbClr val="d2c8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Первоначально заявлено 262 учреждения, из них исключен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едицинские учреждения, оказывающие ВМП в незначительных объемах – менее 200 человек (в год по профилю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осздравнадзором проводится экспертная оценка медицинских учреждений на готовность к оказанию ВМП в рамках государственного задания за счет средств федерального бюдже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50920" y="5805360"/>
            <a:ext cx="8496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Сформирован предварительный перечень медицинских учреждений, в который вошло 46 медицинских учреждений субъектов РФ и муниципальных образований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250920" y="-27000"/>
            <a:ext cx="698508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ализация «пилотного» проекта в 2007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08000" y="1700280"/>
            <a:ext cx="889308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В   рамках   проекта   будут  отрабатывать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ход на преимущественно одноканальное финансирование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дравоохранения субъектов РФ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едрение  единых  федеральных стандартов оказания медицинской помощ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белей  оснащения  и  кадрового обеспечения лечебно-профилактическ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режд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форма   оплаты   труда   в   сфере  здравоохран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едрение  частичного  фондодерж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ование  персонифицированного учета  оказания медицинской помощ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амках обязательного медицинского страх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-36360" y="-115560"/>
            <a:ext cx="9180360" cy="60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зидиумом Совета при Президенте Российской Федерации по реализации приоритетных национальных проектов и демографической политике утверждено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9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убъектов Российской Федерации, рекомендуемых для участия в «пилотном» проекте, направленном на повышение качества оказания медицинских услуг в здравоохранен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3300"/>
                </a:solidFill>
                <a:uFillTx/>
                <a:latin typeface="Arial"/>
              </a:rPr>
              <a:t>Центральный ФО</a:t>
            </a:r>
            <a:r>
              <a:rPr b="1" lang="ru-RU" sz="1800" spc="-1" strike="noStrike" u="sng">
                <a:solidFill>
                  <a:srgbClr val="ff3300"/>
                </a:solidFill>
                <a:uFillTx/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ладимирская, Калужская, Белгородская и Тверская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3300"/>
                </a:solidFill>
                <a:uFillTx/>
                <a:latin typeface="Arial"/>
              </a:rPr>
              <a:t>Южный ФО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раснодарский и Астраханский края, Ростовская обла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3300"/>
                </a:solidFill>
                <a:uFillTx/>
                <a:latin typeface="Arial"/>
              </a:rPr>
              <a:t>Северо – Западный ФО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ологодская, Калининградская и Ленинградская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3300"/>
                </a:solidFill>
                <a:uFillTx/>
                <a:latin typeface="Arial"/>
              </a:rPr>
              <a:t>Приволжский ФО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еспублики Чувашия, Татарстан, Пермский край и Самар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3300"/>
                </a:solidFill>
                <a:uFillTx/>
                <a:latin typeface="Arial"/>
              </a:rPr>
              <a:t>Уральский ФО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Ханты – Мансийский АО – Югра, Тюменская и Свердловская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3300"/>
                </a:solidFill>
                <a:uFillTx/>
                <a:latin typeface="Arial"/>
              </a:rPr>
              <a:t>Сибирский ФО</a:t>
            </a:r>
            <a:r>
              <a:rPr b="0" lang="ru-RU" sz="1800" spc="-1" strike="noStrike" u="sng">
                <a:solidFill>
                  <a:srgbClr val="ff3300"/>
                </a:solidFill>
                <a:uFillTx/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Том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3300"/>
                </a:solidFill>
                <a:uFillTx/>
                <a:latin typeface="Arial"/>
              </a:rPr>
              <a:t>Дальневосточный ФО</a:t>
            </a:r>
            <a:r>
              <a:rPr b="0" lang="ru-RU" sz="1800" spc="-1" strike="noStrike" u="sng">
                <a:solidFill>
                  <a:srgbClr val="ff3300"/>
                </a:solidFill>
                <a:uFillTx/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Хабаровский кр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1010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ализация «пилотного» проекта в 2007 году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-142920" y="692280"/>
            <a:ext cx="946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Финансовые средства Федерального фонда обязательного медицинского страхования предоставляются бюджетам территориальных фондов на одного неработающего застрахованного гражданина согласно договорам обязательного медицинского страхования с учетом уровня расчетной бюджетной обеспеченности на 2007 год из расче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08000" y="2421000"/>
            <a:ext cx="8899560" cy="1067400"/>
          </a:xfrm>
          <a:prstGeom prst="rect">
            <a:avLst/>
          </a:prstGeom>
          <a:noFill/>
          <a:ln w="9360">
            <a:solidFill>
              <a:srgbClr val="d2c8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00,0 рублей при уровне расчетной бюджетной обеспеченн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пределах от 0,6 до 0,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ладимирская область, Калужская область, Республика Чуваши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Хабаровский кра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042920" y="1916280"/>
            <a:ext cx="7129440" cy="431640"/>
          </a:xfrm>
          <a:prstGeom prst="rect">
            <a:avLst/>
          </a:prstGeom>
          <a:solidFill>
            <a:srgbClr val="8fb4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финансировани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0% / 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14480" y="4005360"/>
            <a:ext cx="8935920" cy="824040"/>
          </a:xfrm>
          <a:prstGeom prst="rect">
            <a:avLst/>
          </a:prstGeom>
          <a:noFill/>
          <a:ln w="9360">
            <a:solidFill>
              <a:srgbClr val="d2c8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00,0 рублей при уровне расчетной бюджетной обеспеченн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пределах от 0,8 до 1,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Белгородская область, Калининградская область, Томская обла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014480" y="3530520"/>
            <a:ext cx="7129440" cy="432000"/>
          </a:xfrm>
          <a:prstGeom prst="rect">
            <a:avLst/>
          </a:prstGeom>
          <a:solidFill>
            <a:srgbClr val="8fb4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финансировани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50% / 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14480" y="5559480"/>
            <a:ext cx="8864280" cy="824040"/>
          </a:xfrm>
          <a:prstGeom prst="rect">
            <a:avLst/>
          </a:prstGeom>
          <a:noFill/>
          <a:ln w="9360">
            <a:solidFill>
              <a:srgbClr val="d2c8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00,0 рублей при уровне расчетной бюджетной обеспеченности колеблет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пределах от 1,0 и выш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ологодская область, Ленинградская обла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971640" y="5084640"/>
            <a:ext cx="7129440" cy="432000"/>
          </a:xfrm>
          <a:prstGeom prst="rect">
            <a:avLst/>
          </a:prstGeom>
          <a:solidFill>
            <a:srgbClr val="8fb4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финансировани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25% / 7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1010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ализация «пилотного» проекта в 2007 году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0" y="86184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Финансовые средства Федерального фонда обязательного медицинского страхования предоставляются бюджетам территориальных фондов на одного неработающего застрахованного гражданина согласно договорам обязательного медицинского страхования с учетом уровня расчетной бюджетной обеспеченности на 2007 год из расче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36440" y="3348000"/>
            <a:ext cx="8899560" cy="916920"/>
          </a:xfrm>
          <a:prstGeom prst="rect">
            <a:avLst/>
          </a:prstGeom>
          <a:noFill/>
          <a:ln w="9360">
            <a:solidFill>
              <a:srgbClr val="d2c8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Тверская область, Краснодарский край, Астраханская область, Ростовская область, Республика Татарстан, Пермский край, Самарская область, Свердлов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08000" y="5716440"/>
            <a:ext cx="8899560" cy="368280"/>
          </a:xfrm>
          <a:prstGeom prst="rect">
            <a:avLst/>
          </a:prstGeom>
          <a:noFill/>
          <a:ln w="9360">
            <a:solidFill>
              <a:srgbClr val="d2c8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юменская область, Ханты-Мансийский автономный окр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971640" y="2421000"/>
            <a:ext cx="7345440" cy="649080"/>
          </a:xfrm>
          <a:prstGeom prst="rect">
            <a:avLst/>
          </a:prstGeom>
          <a:solidFill>
            <a:srgbClr val="8fb4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,0 рублей без софинансирования со сторо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юджета субъекта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971640" y="4581360"/>
            <a:ext cx="7345440" cy="649440"/>
          </a:xfrm>
          <a:prstGeom prst="rect">
            <a:avLst/>
          </a:prstGeom>
          <a:solidFill>
            <a:srgbClr val="8fb4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 счет средств бюджетов субъектов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3133800" y="1341360"/>
            <a:ext cx="2950920" cy="4392720"/>
            <a:chOff x="3133800" y="1341360"/>
            <a:chExt cx="2950920" cy="439272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3166920" y="1487520"/>
              <a:ext cx="2747520" cy="41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3133800" y="1341360"/>
              <a:ext cx="2950920" cy="4392720"/>
            </a:xfrm>
            <a:prstGeom prst="rect">
              <a:avLst/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70920"/>
            <a:ext cx="810108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Подготовка и переподготовка врачей общей (семейной) практики, врачей-терапевтов участковых и  врачей-педиатров участковых 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24000" y="2365200"/>
          <a:ext cx="4508280" cy="2267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2365200"/>
                    <a:ext cx="4508280" cy="22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431640" y="855720"/>
            <a:ext cx="860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сего в 2006 году подготовлено 27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199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врачей, в том числе в рамках Проекта 12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05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врачей первичного звен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08000" y="4653000"/>
            <a:ext cx="4448520" cy="868320"/>
            <a:chOff x="108000" y="4653000"/>
            <a:chExt cx="4448520" cy="868320"/>
          </a:xfrm>
        </p:grpSpPr>
        <p:sp>
          <p:nvSpPr>
            <p:cNvPr id="136" name=""/>
            <p:cNvSpPr/>
            <p:nvPr/>
          </p:nvSpPr>
          <p:spPr>
            <a:xfrm>
              <a:off x="108000" y="5086440"/>
              <a:ext cx="504720" cy="43344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411280" y="5087880"/>
              <a:ext cx="505080" cy="4334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71640" y="4653000"/>
              <a:ext cx="504720" cy="4334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859840" y="5141880"/>
              <a:ext cx="169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- 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враче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3600" y="5141880"/>
              <a:ext cx="169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- 4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9 враче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419840" y="4678200"/>
              <a:ext cx="169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- 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61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враче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2" name=""/>
          <p:cNvGraphicFramePr/>
          <p:nvPr/>
        </p:nvGraphicFramePr>
        <p:xfrm>
          <a:off x="4456080" y="2367000"/>
          <a:ext cx="4456080" cy="23320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56080" y="2367000"/>
                    <a:ext cx="445608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1484280" y="1725480"/>
            <a:ext cx="21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рамках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29280" y="1628640"/>
            <a:ext cx="437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рамках учебно-производственных пл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5040360" y="4721400"/>
            <a:ext cx="4136040" cy="868320"/>
            <a:chOff x="5040360" y="4721400"/>
            <a:chExt cx="4136040" cy="868320"/>
          </a:xfrm>
        </p:grpSpPr>
        <p:sp>
          <p:nvSpPr>
            <p:cNvPr id="147" name=""/>
            <p:cNvSpPr/>
            <p:nvPr/>
          </p:nvSpPr>
          <p:spPr>
            <a:xfrm>
              <a:off x="5040360" y="5154840"/>
              <a:ext cx="504720" cy="43344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067520" y="5156280"/>
              <a:ext cx="504720" cy="4334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772240" y="4721400"/>
              <a:ext cx="504720" cy="4334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479360" y="5210280"/>
              <a:ext cx="169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 6818 враче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39600" y="5210280"/>
              <a:ext cx="169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 5586 враче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184080" y="4746600"/>
              <a:ext cx="169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 1990 враче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81080" y="130320"/>
            <a:ext cx="81360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существление денежных выплат медицинским работникам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50920" y="1371600"/>
            <a:ext cx="8496000" cy="2057040"/>
            <a:chOff x="250920" y="1371600"/>
            <a:chExt cx="8496000" cy="2057040"/>
          </a:xfrm>
        </p:grpSpPr>
        <p:sp>
          <p:nvSpPr>
            <p:cNvPr id="155" name=""/>
            <p:cNvSpPr/>
            <p:nvPr/>
          </p:nvSpPr>
          <p:spPr>
            <a:xfrm>
              <a:off x="250920" y="1371600"/>
              <a:ext cx="8496000" cy="2057040"/>
            </a:xfrm>
            <a:prstGeom prst="rect">
              <a:avLst/>
            </a:prstGeom>
            <a:solidFill>
              <a:srgbClr val="d2c8fe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1792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Положительная динамика изменени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92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численности медицинских работник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92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92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92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1080" y="2212560"/>
              <a:ext cx="860400" cy="368280"/>
            </a:xfrm>
            <a:prstGeom prst="rect">
              <a:avLst/>
            </a:prstGeom>
            <a:solidFill>
              <a:srgbClr val="d2c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врач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3600" y="2764800"/>
              <a:ext cx="2577960" cy="368280"/>
            </a:xfrm>
            <a:prstGeom prst="rect">
              <a:avLst/>
            </a:prstGeom>
            <a:solidFill>
              <a:srgbClr val="d2c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медицинские сестр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843280" y="2212560"/>
              <a:ext cx="1439640" cy="46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1792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6,9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тыс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654520" y="2212560"/>
              <a:ext cx="1436760" cy="46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1792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3,4 тыс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95640" y="2773440"/>
              <a:ext cx="1440000" cy="46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1792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4,9 тыс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875280" y="2773440"/>
              <a:ext cx="1440000" cy="46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1792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1,9 тыс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318040" y="2212560"/>
              <a:ext cx="307080" cy="368280"/>
            </a:xfrm>
            <a:prstGeom prst="rect">
              <a:avLst/>
            </a:prstGeom>
            <a:solidFill>
              <a:srgbClr val="d2c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492720" y="2764800"/>
              <a:ext cx="307080" cy="368280"/>
            </a:xfrm>
            <a:prstGeom prst="rect">
              <a:avLst/>
            </a:prstGeom>
            <a:solidFill>
              <a:srgbClr val="d2c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12720" y="2764800"/>
              <a:ext cx="465840" cy="368280"/>
            </a:xfrm>
            <a:prstGeom prst="rect">
              <a:avLst/>
            </a:prstGeom>
            <a:solidFill>
              <a:srgbClr val="d2c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д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752360" y="2203920"/>
              <a:ext cx="465840" cy="368280"/>
            </a:xfrm>
            <a:prstGeom prst="rect">
              <a:avLst/>
            </a:prstGeom>
            <a:solidFill>
              <a:srgbClr val="d2c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д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324000" y="3716280"/>
            <a:ext cx="8496000" cy="2376720"/>
            <a:chOff x="324000" y="3716280"/>
            <a:chExt cx="8496000" cy="2376720"/>
          </a:xfrm>
        </p:grpSpPr>
        <p:sp>
          <p:nvSpPr>
            <p:cNvPr id="167" name=""/>
            <p:cNvSpPr/>
            <p:nvPr/>
          </p:nvSpPr>
          <p:spPr>
            <a:xfrm>
              <a:off x="324000" y="3716280"/>
              <a:ext cx="8496000" cy="2376720"/>
            </a:xfrm>
            <a:prstGeom prst="rect">
              <a:avLst/>
            </a:prstGeom>
            <a:solidFill>
              <a:srgbClr val="d2c8fe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1792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Снижение коэффициента совместитель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92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92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92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92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92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92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6320" y="4292640"/>
              <a:ext cx="72072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1792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,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065240" y="5156280"/>
              <a:ext cx="14414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1792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до 1,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059280" y="4191120"/>
              <a:ext cx="5546520" cy="368280"/>
            </a:xfrm>
            <a:prstGeom prst="rect">
              <a:avLst/>
            </a:prstGeom>
            <a:solidFill>
              <a:srgbClr val="d2c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в целом по Российской Федера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75040" y="4292640"/>
              <a:ext cx="72072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1792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,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34680" y="4286520"/>
              <a:ext cx="465840" cy="368280"/>
            </a:xfrm>
            <a:prstGeom prst="rect">
              <a:avLst/>
            </a:prstGeom>
            <a:solidFill>
              <a:srgbClr val="d2c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д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97080" y="4286520"/>
              <a:ext cx="307080" cy="368280"/>
            </a:xfrm>
            <a:prstGeom prst="rect">
              <a:avLst/>
            </a:prstGeom>
            <a:solidFill>
              <a:srgbClr val="d2c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59280" y="4869000"/>
              <a:ext cx="5546520" cy="916920"/>
            </a:xfrm>
            <a:prstGeom prst="rect">
              <a:avLst/>
            </a:prstGeom>
            <a:solidFill>
              <a:srgbClr val="d2c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 Краснодарском крае, Волгоградской, Смоленской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и Пензенской областях, республиках Татарстан и Чувашия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3995640" y="763560"/>
            <a:ext cx="4105080" cy="5761080"/>
            <a:chOff x="3995640" y="763560"/>
            <a:chExt cx="4105080" cy="5761080"/>
          </a:xfrm>
        </p:grpSpPr>
        <p:pic>
          <p:nvPicPr>
            <p:cNvPr id="176" name="" descr=""/>
            <p:cNvPicPr/>
            <p:nvPr/>
          </p:nvPicPr>
          <p:blipFill>
            <a:blip r:embed="rId1"/>
            <a:stretch/>
          </p:blipFill>
          <p:spPr>
            <a:xfrm>
              <a:off x="4066920" y="763560"/>
              <a:ext cx="3879720" cy="563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95640" y="979560"/>
              <a:ext cx="4105080" cy="5545080"/>
            </a:xfrm>
            <a:prstGeom prst="rect">
              <a:avLst/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0" y="5838480"/>
            <a:ext cx="9036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Примечание: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существенного перехода узких специалистов в первичное звено с января 2006 г. не отмечалось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96920" y="250524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р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979640" y="3068640"/>
            <a:ext cx="258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дицин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ест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157640" y="2428920"/>
            <a:ext cx="1440000" cy="533520"/>
          </a:xfrm>
          <a:prstGeom prst="rect">
            <a:avLst/>
          </a:prstGeom>
          <a:solidFill>
            <a:srgbClr val="d2c8fe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040520" y="2352600"/>
            <a:ext cx="1436760" cy="533520"/>
          </a:xfrm>
          <a:prstGeom prst="rect">
            <a:avLst/>
          </a:prstGeom>
          <a:solidFill>
            <a:srgbClr val="d2c8fe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156200" y="3114720"/>
            <a:ext cx="1439640" cy="533520"/>
          </a:xfrm>
          <a:prstGeom prst="rect">
            <a:avLst/>
          </a:prstGeom>
          <a:solidFill>
            <a:srgbClr val="d2c8fe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023240" y="3114720"/>
            <a:ext cx="1439640" cy="533520"/>
          </a:xfrm>
          <a:prstGeom prst="rect">
            <a:avLst/>
          </a:prstGeom>
          <a:solidFill>
            <a:srgbClr val="d2c8fe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596040" y="2809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100920" y="2809800"/>
            <a:ext cx="4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95640" y="981000"/>
            <a:ext cx="62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оля лиц пенсионного возраста среди медицинских работников первичного звена снизила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084560" y="1895400"/>
            <a:ext cx="170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екабрь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21640" y="189540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екабрь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181080" y="130320"/>
            <a:ext cx="81360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существление денежных выплат медицинским работникам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44600" y="907920"/>
            <a:ext cx="1535040" cy="23036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50920" y="3701160"/>
            <a:ext cx="87138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Изменение обусловле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- приходом в амбулаторно-поликлинические учреждения выпускников медицинских ВУЗов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более 1900 чел.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и медицинских училищ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472392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- созданием условий молодым врачам, изъявившим желание работать на селе (Самарская и Воронежская области, Республика Чувашия и др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2556000" y="1268280"/>
            <a:ext cx="3816360" cy="5254920"/>
            <a:chOff x="2556000" y="1268280"/>
            <a:chExt cx="3816360" cy="5254920"/>
          </a:xfrm>
        </p:grpSpPr>
        <p:pic>
          <p:nvPicPr>
            <p:cNvPr id="195" name="" descr=""/>
            <p:cNvPicPr/>
            <p:nvPr/>
          </p:nvPicPr>
          <p:blipFill>
            <a:blip r:embed="rId1"/>
            <a:stretch/>
          </p:blipFill>
          <p:spPr>
            <a:xfrm>
              <a:off x="2677320" y="1401480"/>
              <a:ext cx="3473280" cy="50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2556000" y="1268280"/>
              <a:ext cx="3816360" cy="5254920"/>
            </a:xfrm>
            <a:prstGeom prst="rect">
              <a:avLst/>
            </a:prstGeom>
            <a:solidFill>
              <a:srgbClr val="ffff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5640" y="70920"/>
            <a:ext cx="810108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существление денежных выплат медицинским работникам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12480" y="907560"/>
            <a:ext cx="8507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Средний уровень оплаты труда медицинских работников в рамках Проекта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врачей-терапевтов участковых, врачей-педиатров участковых, врачей общей (семейной) практики  -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от 13,9 до 23,0 тыс. рублей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медицинских сестер, работающих с  врачами-терапевтами  участковыми, врачами-педиатрами участковыми, врачами общей (семейной) практики  –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от 7,5 до 15,1 тыс. рублей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врачей-специалистов, не участвующих в проведении дополнительной диспансеризации и углубленных медицинских осмотрах –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от 7,2-10,5 тыс. рублей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врачей-специалистов, участвующих в проведении дополнительной диспансеризации и углубленных медицинских осмотрах –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от 12,6-30,6 тыс. рублей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2T12:44:05Z</dcterms:created>
  <dc:creator>mlevitskaya</dc:creator>
  <dc:description/>
  <dc:language>en-US</dc:language>
  <cp:lastModifiedBy>Lpanchuk</cp:lastModifiedBy>
  <dcterms:modified xsi:type="dcterms:W3CDTF">2007-01-30T17:43:44Z</dcterms:modified>
  <cp:revision>267</cp:revision>
  <dc:subject/>
  <dc:title>Слайд 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443053976</vt:r8>
  </property>
  <property fmtid="{D5CDD505-2E9C-101B-9397-08002B2CF9AE}" pid="3" name="_AuthorEmail">
    <vt:lpwstr>LPanchuk@e-minzdrav.ru</vt:lpwstr>
  </property>
  <property fmtid="{D5CDD505-2E9C-101B-9397-08002B2CF9AE}" pid="4" name="_AuthorEmailDisplayName">
    <vt:lpwstr>Панчук Лариса Николаевна</vt:lpwstr>
  </property>
  <property fmtid="{D5CDD505-2E9C-101B-9397-08002B2CF9AE}" pid="5" name="_EmailSubject">
    <vt:lpwstr/>
  </property>
</Properties>
</file>